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C5E1-BC31-46D4-B6B9-96444C6B23B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1810-CAE8-4745-B739-BDCF7A74DDF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998C-311D-47F9-8B99-35602452C9B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3339-14A5-4828-BFA7-97AFD5A0106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776B-5D1E-417D-80A7-40B92D4A8AA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874B-C8D2-480F-AB31-6E397160A3F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F1D2-DE12-4BFA-AA01-0788D93A4E6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Juncture =união; enclosure=delimitação; addition=adi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CB4A-17E1-4F85-8CB9-8FD0A4C0A06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0AF3-7C39-47DF-BA77-82F6A49D8B5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A4CB-E0C2-41BD-8B35-6F2640D0656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4ED3-9AB8-4D6E-BFB1-862FD38CBB1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72C8-C73A-4E01-8E30-7189D9BE461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90C7-A1E2-48D6-AC92-C65E2333FF1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296F-D622-4266-B309-462CD041479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58DA-3065-4E82-88F5-939AAAEA353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5A69-737B-44D5-8476-5E1820BA0D7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6316-AE4A-441A-9597-EA7F40861C9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8392-9A42-46A0-AE4C-BE9370D832F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1097-CF7B-4D23-8943-7E015D0F628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D966-8152-406F-9F1B-186A410BE32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3578-BC18-4C88-8517-87D7E4BB630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DDB1-3424-4228-80FA-DD10349C2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76360" y="429840"/>
            <a:ext cx="64072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77640"/>
            <a:ext cx="822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6C94-14F8-4DED-B342-60587669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76360" y="429840"/>
            <a:ext cx="64072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0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28280"/>
            <a:ext cx="40150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0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977640"/>
            <a:ext cx="40150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06FE-9847-4178-9B5E-4ADA138DF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76360" y="429840"/>
            <a:ext cx="64072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2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28280"/>
            <a:ext cx="26492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28280"/>
            <a:ext cx="26492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77640"/>
            <a:ext cx="26492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977640"/>
            <a:ext cx="26492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977640"/>
            <a:ext cx="26492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446B-CC4A-42C5-83ED-29A336AE3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76360" y="429840"/>
            <a:ext cx="64072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816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76360" y="429840"/>
            <a:ext cx="64072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81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76360" y="429840"/>
            <a:ext cx="64072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0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628280"/>
            <a:ext cx="40150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76360" y="429840"/>
            <a:ext cx="64072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376360" y="429840"/>
            <a:ext cx="640728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76360" y="429840"/>
            <a:ext cx="64072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0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28280"/>
            <a:ext cx="40150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0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76360" y="429840"/>
            <a:ext cx="64072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816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2C3B-6A49-456B-AB80-1CA9272F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76360" y="429840"/>
            <a:ext cx="64072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0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28280"/>
            <a:ext cx="40150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520" y="3977640"/>
            <a:ext cx="40150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76360" y="429840"/>
            <a:ext cx="64072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0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628280"/>
            <a:ext cx="40150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822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76360" y="429840"/>
            <a:ext cx="64072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77640"/>
            <a:ext cx="822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76360" y="429840"/>
            <a:ext cx="64072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0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628280"/>
            <a:ext cx="40150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0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520" y="3977640"/>
            <a:ext cx="40150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76360" y="429840"/>
            <a:ext cx="64072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2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280" y="1628280"/>
            <a:ext cx="26492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1360" y="1628280"/>
            <a:ext cx="26492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77640"/>
            <a:ext cx="26492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280" y="3977640"/>
            <a:ext cx="26492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1360" y="3977640"/>
            <a:ext cx="26492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590AA4-1552-46C3-937B-C35AFA067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76360" y="429840"/>
            <a:ext cx="64072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816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9E5F24-EE9D-4B83-A06F-DACC793F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376360" y="429840"/>
            <a:ext cx="64072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81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F94350-B6BF-4B7E-842D-639588B8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76360" y="429840"/>
            <a:ext cx="64072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0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628280"/>
            <a:ext cx="40150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587A71-E135-478A-82F6-990DF132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76360" y="429840"/>
            <a:ext cx="64072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767B96-FD47-419F-92DA-B2705EFF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76360" y="429840"/>
            <a:ext cx="64072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81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C51A-64A9-452D-87E2-926B1C55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376360" y="429840"/>
            <a:ext cx="640728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127F8F-6A95-4F13-ABBE-C7C4AA34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76360" y="429840"/>
            <a:ext cx="64072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0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520" y="1628280"/>
            <a:ext cx="40150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0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38C402-5C72-407B-92A8-82B2575A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376360" y="429840"/>
            <a:ext cx="64072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0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520" y="1628280"/>
            <a:ext cx="40150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520" y="3977640"/>
            <a:ext cx="40150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887514-4E96-474C-88A3-A3172B72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376360" y="429840"/>
            <a:ext cx="64072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0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520" y="1628280"/>
            <a:ext cx="40150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822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AE8498-AE2C-40EC-8F84-556C6577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76360" y="429840"/>
            <a:ext cx="64072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77640"/>
            <a:ext cx="822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53BEBF-64AA-44F1-8CA9-2630106C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376360" y="429840"/>
            <a:ext cx="64072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0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520" y="1628280"/>
            <a:ext cx="40150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0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520" y="3977640"/>
            <a:ext cx="40150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C060FD-86D5-49DD-A087-741A4BDCA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76360" y="429840"/>
            <a:ext cx="64072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2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280" y="1628280"/>
            <a:ext cx="26492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1360" y="1628280"/>
            <a:ext cx="26492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77640"/>
            <a:ext cx="26492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280" y="3977640"/>
            <a:ext cx="26492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1360" y="3977640"/>
            <a:ext cx="26492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E83CF2-3224-45B5-BD4B-458B11731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76360" y="429840"/>
            <a:ext cx="64072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0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28280"/>
            <a:ext cx="40150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A32D-4DD9-4546-A7D3-DFBCADB0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76360" y="429840"/>
            <a:ext cx="64072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A02F-6C31-43F6-ACBA-2C2F02DB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76360" y="429840"/>
            <a:ext cx="640728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874F-B2B0-443C-833C-F7FEF62C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76360" y="429840"/>
            <a:ext cx="64072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0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28280"/>
            <a:ext cx="40150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0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46D2-D80D-46DA-B651-CC959581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76360" y="429840"/>
            <a:ext cx="64072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0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28280"/>
            <a:ext cx="40150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977640"/>
            <a:ext cx="40150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63F4-9F1A-46CC-9FEE-34A0396E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76360" y="429840"/>
            <a:ext cx="64072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0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28280"/>
            <a:ext cx="40150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822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BE12-B26C-40D9-A9F1-480A6F3F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76360" y="429840"/>
            <a:ext cx="64072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81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8A8E-B041-479E-B84F-E850A211E0F4}" type="slidenum">
              <a:rPr b="0" lang="pt-BR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1763640" cy="79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1763640" cy="792000"/>
          </a:xfrm>
          <a:prstGeom prst="rect">
            <a:avLst/>
          </a:prstGeom>
          <a:ln w="0">
            <a:noFill/>
          </a:ln>
        </p:spPr>
      </p:pic>
      <p:sp>
        <p:nvSpPr>
          <p:cNvPr id="43" name="CaixaDeTexto 7"/>
          <p:cNvSpPr/>
          <p:nvPr/>
        </p:nvSpPr>
        <p:spPr>
          <a:xfrm>
            <a:off x="0" y="714240"/>
            <a:ext cx="20718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lexandre Cardo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76360" y="429840"/>
            <a:ext cx="64072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81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1763640" cy="792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76360" y="429840"/>
            <a:ext cx="64072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81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7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8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8D47-DCB5-4B96-AB58-0A006F64EE6D}" type="slidenum">
              <a:rPr b="0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5100" spc="-1" strike="noStrike">
                <a:solidFill>
                  <a:srgbClr val="000000"/>
                </a:solidFill>
                <a:latin typeface="Arial"/>
              </a:rPr>
              <a:t>Visualização da Informação</a:t>
            </a:r>
            <a:endParaRPr b="1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11280" y="3885840"/>
            <a:ext cx="792144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3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Arial"/>
              </a:rPr>
              <a:t>Classificação das representações visuai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3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Arial"/>
              </a:rPr>
              <a:t>Propriedades visuai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3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3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Josney Freitas Silv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3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Leonardo Vieira Barcel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76360" y="429840"/>
            <a:ext cx="64072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800" spc="-1" strike="noStrike">
                <a:solidFill>
                  <a:srgbClr val="000000"/>
                </a:solidFill>
                <a:latin typeface="Arial"/>
              </a:rPr>
              <a:t>Propriedades Visuai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47280" y="1628280"/>
            <a:ext cx="71377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Arial"/>
              </a:rPr>
              <a:t>Para que as representações visuais sejam efetivas, propriedades visuais adequadas devem ser utilizadas para representar as informaçõe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76360" y="429840"/>
            <a:ext cx="64072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800" spc="-1" strike="noStrike">
                <a:solidFill>
                  <a:srgbClr val="000000"/>
                </a:solidFill>
                <a:latin typeface="Arial"/>
              </a:rPr>
              <a:t>Atributos visuai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81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Para se mostrar uma informação é necessária preocupação de como esta informação será exibid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localizar rapidamente pontos em um mapa, estes devem estar representados de forma diferenci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76360" y="429840"/>
            <a:ext cx="64072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800" spc="-1" strike="noStrike">
                <a:solidFill>
                  <a:srgbClr val="000000"/>
                </a:solidFill>
                <a:latin typeface="Arial"/>
              </a:rPr>
              <a:t>Marcas Visuai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81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ão símbolos gráficos utilizados para representar os itens de dad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Tipos de marca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nt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inha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Área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olum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igu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376360" y="429840"/>
            <a:ext cx="64072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800" spc="-1" strike="noStrike">
                <a:solidFill>
                  <a:srgbClr val="000000"/>
                </a:solidFill>
                <a:latin typeface="Arial"/>
              </a:rPr>
              <a:t>Propriedades Gráfica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81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s propriedades Gráficas são atributos gráficos das marcas visuais associadas aos atributos dos itens de dados das tabela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lgumas propriedades gráfica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sição, x, y, z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amanho, comprimento, área, volu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rientação, ângulo, inclinaçã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r, brilho, textur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orm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nimação, tem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376360" y="161640"/>
            <a:ext cx="64072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Representação Visual de Atributo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2786040" y="1197000"/>
            <a:ext cx="5025960" cy="54579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76360" y="1025280"/>
            <a:ext cx="7416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Arial"/>
              </a:rPr>
              <a:t>Quantos tipos de símbolos diferentes temos nesta  imagem?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1738440" y="2495520"/>
            <a:ext cx="6433920" cy="3225960"/>
          </a:xfrm>
          <a:prstGeom prst="rect">
            <a:avLst/>
          </a:prstGeom>
          <a:ln w="0">
            <a:noFill/>
          </a:ln>
        </p:spPr>
      </p:pic>
      <p:sp>
        <p:nvSpPr>
          <p:cNvPr id="166" name="Oval 5"/>
          <p:cNvSpPr/>
          <p:nvPr/>
        </p:nvSpPr>
        <p:spPr>
          <a:xfrm>
            <a:off x="2340000" y="2781360"/>
            <a:ext cx="1008000" cy="863640"/>
          </a:xfrm>
          <a:prstGeom prst="ellipse">
            <a:avLst/>
          </a:pr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198144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9"/>
          <p:cNvSpPr/>
          <p:nvPr/>
        </p:nvSpPr>
        <p:spPr>
          <a:xfrm>
            <a:off x="2317680" y="3871800"/>
            <a:ext cx="647640" cy="576360"/>
          </a:xfrm>
          <a:prstGeom prst="ellipse">
            <a:avLst/>
          </a:pr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203076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1"/>
          <p:cNvSpPr/>
          <p:nvPr/>
        </p:nvSpPr>
        <p:spPr>
          <a:xfrm>
            <a:off x="3203640" y="4653000"/>
            <a:ext cx="647640" cy="576360"/>
          </a:xfrm>
          <a:prstGeom prst="ellipse">
            <a:avLst/>
          </a:pr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289440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3"/>
          <p:cNvSpPr/>
          <p:nvPr/>
        </p:nvSpPr>
        <p:spPr>
          <a:xfrm>
            <a:off x="4284720" y="3068640"/>
            <a:ext cx="647640" cy="647640"/>
          </a:xfrm>
          <a:prstGeom prst="ellipse">
            <a:avLst/>
          </a:pr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3997800" y="306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5"/>
          <p:cNvSpPr/>
          <p:nvPr/>
        </p:nvSpPr>
        <p:spPr>
          <a:xfrm>
            <a:off x="4211640" y="3789360"/>
            <a:ext cx="792000" cy="792000"/>
          </a:xfrm>
          <a:prstGeom prst="ellipse">
            <a:avLst/>
          </a:pr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390240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7"/>
          <p:cNvSpPr/>
          <p:nvPr/>
        </p:nvSpPr>
        <p:spPr>
          <a:xfrm>
            <a:off x="5048280" y="4510080"/>
            <a:ext cx="1008000" cy="863640"/>
          </a:xfrm>
          <a:prstGeom prst="ellipse">
            <a:avLst/>
          </a:pr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8"/>
          <p:cNvSpPr/>
          <p:nvPr/>
        </p:nvSpPr>
        <p:spPr>
          <a:xfrm>
            <a:off x="4689720" y="472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9"/>
          <p:cNvSpPr/>
          <p:nvPr/>
        </p:nvSpPr>
        <p:spPr>
          <a:xfrm>
            <a:off x="5364000" y="3716280"/>
            <a:ext cx="648000" cy="649440"/>
          </a:xfrm>
          <a:prstGeom prst="ellipse">
            <a:avLst/>
          </a:pr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0"/>
          <p:cNvSpPr/>
          <p:nvPr/>
        </p:nvSpPr>
        <p:spPr>
          <a:xfrm>
            <a:off x="507888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1"/>
          <p:cNvSpPr/>
          <p:nvPr/>
        </p:nvSpPr>
        <p:spPr>
          <a:xfrm>
            <a:off x="6156360" y="3141720"/>
            <a:ext cx="1008000" cy="863640"/>
          </a:xfrm>
          <a:prstGeom prst="ellipse">
            <a:avLst/>
          </a:pr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2"/>
          <p:cNvSpPr/>
          <p:nvPr/>
        </p:nvSpPr>
        <p:spPr>
          <a:xfrm>
            <a:off x="579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23"/>
          <p:cNvSpPr/>
          <p:nvPr/>
        </p:nvSpPr>
        <p:spPr>
          <a:xfrm>
            <a:off x="6804000" y="4294080"/>
            <a:ext cx="432000" cy="503280"/>
          </a:xfrm>
          <a:prstGeom prst="ellipse">
            <a:avLst/>
          </a:pr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4"/>
          <p:cNvSpPr/>
          <p:nvPr/>
        </p:nvSpPr>
        <p:spPr>
          <a:xfrm>
            <a:off x="6445440" y="443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76360" y="429840"/>
            <a:ext cx="64072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800" spc="-1" strike="noStrike">
                <a:solidFill>
                  <a:srgbClr val="000000"/>
                </a:solidFill>
                <a:latin typeface="Arial"/>
              </a:rPr>
              <a:t>Propriedades Visuais</a:t>
            </a:r>
            <a:br>
              <a:rPr sz="3800"/>
            </a:b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Efeitos emociona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8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Existem vários estudos que comprovam a influência das cores sobre o estado emocional, a produtividade e a qualidade do trabalho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O homem apresenta diversas reações a cores que podem deixá-lo triste, alegre, calmo ou irritado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As cores possuem também diferentes simbologias, associações e superstições, que variam de acordo com a região e a cultura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Em todas as épocas as cores e formas aparecem ligadas a diversos códigos e símbolos nas sociedades organizadas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Segundo Cybis (1997), para que a utilização das cores seja eficaz, deve-se tomar cuidado com três aspectos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legibilidade final da informação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efeitos das cores sobre a performance cognitiva do usuário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possibilidades dos dispositivos físic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376360" y="429840"/>
            <a:ext cx="64072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800" spc="-1" strike="noStrike">
                <a:solidFill>
                  <a:srgbClr val="000000"/>
                </a:solidFill>
                <a:latin typeface="Arial"/>
              </a:rPr>
              <a:t>Propriedades Visuais</a:t>
            </a:r>
            <a:br>
              <a:rPr sz="3800"/>
            </a:b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Objetivos do uso da c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8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 cor pode aumentar o processamento visual e cognitivo da informação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r exemplo, a cor pode ajudar a localizar, classificar e associar imagens mostrando o relacionamento entre as informações (ISO 9241-8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 aplicação da cor para mostrar as imagens e fundos deve facilitar a correta percepção, reconhecimento e interpretação das imagens e da informação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atribuição da cor deve ser consistente com as recomendações ou padrões da ergonomia e com as convenções aceitas (ISO 9241-8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40000" y="259920"/>
            <a:ext cx="64072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800" spc="-1" strike="noStrike">
                <a:solidFill>
                  <a:srgbClr val="000000"/>
                </a:solidFill>
                <a:latin typeface="Arial"/>
              </a:rPr>
              <a:t>Propriedades Visuais</a:t>
            </a:r>
            <a:br>
              <a:rPr sz="3800"/>
            </a:b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uidados com o uso das co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227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Arial"/>
              </a:rPr>
              <a:t>Segundo Marcus (1992), a cor pode oferecer muitas vantagens, mas ao mesmo tempo o uso da cor pode acarretar em algumas desvantagens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40000" y="259920"/>
            <a:ext cx="64072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800" spc="-1" strike="noStrike">
                <a:solidFill>
                  <a:srgbClr val="000000"/>
                </a:solidFill>
                <a:latin typeface="Arial"/>
              </a:rPr>
              <a:t>Propriedades Visuais</a:t>
            </a:r>
            <a:br>
              <a:rPr sz="3800"/>
            </a:b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uidados com o uso das co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27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30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500" spc="-1" strike="noStrike" u="sng">
                <a:solidFill>
                  <a:srgbClr val="000000"/>
                </a:solidFill>
                <a:uFillTx/>
                <a:latin typeface="Arial"/>
              </a:rPr>
              <a:t>Vantagens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hamar atenção para informações e dados específico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dentificar elementos de estruturas e processo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strar realisticamente objetos naturai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resentar a estrutura lógica de idéia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umentar o apelo, credibilidade, memorabilidade e compreensibidad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duzir erros de leitura e interpretaçã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umentar o número de dimensões para codificar dado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strar qualidades e quantidades em um espaço limit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376360" y="429840"/>
            <a:ext cx="64072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8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81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Visualização de informaçõ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presenta graficamente dados de um determinado domínio de aplic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plora a capacidade de percepção do hom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duz conhecimentos a partir das relações espaciais exib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écnicas diferentes são empregadas em determinadas aplicações ou situaçõ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340000" y="259920"/>
            <a:ext cx="64072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800" spc="-1" strike="noStrike">
                <a:solidFill>
                  <a:srgbClr val="000000"/>
                </a:solidFill>
                <a:latin typeface="Arial"/>
              </a:rPr>
              <a:t>Propriedades Visuais</a:t>
            </a:r>
            <a:br>
              <a:rPr sz="3800"/>
            </a:b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uidados com o uso das co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000" y="1485720"/>
            <a:ext cx="8227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500" spc="-1" strike="noStrike" u="sng">
                <a:solidFill>
                  <a:srgbClr val="000000"/>
                </a:solidFill>
                <a:uFillTx/>
                <a:latin typeface="Arial"/>
              </a:rPr>
              <a:t>Desvantagens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quer equipamentos de vídeo mais caros e complicado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 não levar em conta a visão deficiente para cor entre alguns usuários (8% da população masculina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dem causar fadiga visual e imagens posteriores induzida por cores fort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de contribuir para confusão visual dada a complexidade e a potencialidade do fenômeno da cor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 ter associações culturais e históricas negativ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40000" y="259920"/>
            <a:ext cx="64072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800" spc="-1" strike="noStrike">
                <a:solidFill>
                  <a:srgbClr val="000000"/>
                </a:solidFill>
                <a:latin typeface="Arial"/>
              </a:rPr>
              <a:t>Visualização de Informaçõe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7683480" cy="1569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"/>
          <p:cNvPicPr/>
          <p:nvPr/>
        </p:nvPicPr>
        <p:blipFill>
          <a:blip r:embed="rId2"/>
          <a:stretch/>
        </p:blipFill>
        <p:spPr>
          <a:xfrm>
            <a:off x="1042920" y="3500280"/>
            <a:ext cx="7618320" cy="26924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6"/>
          <p:cNvSpPr/>
          <p:nvPr/>
        </p:nvSpPr>
        <p:spPr>
          <a:xfrm>
            <a:off x="951480" y="3076560"/>
            <a:ext cx="400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ados apresentados na forma tab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047960" y="6165720"/>
            <a:ext cx="39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ados apresentados na forma grá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376360" y="429840"/>
            <a:ext cx="64072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Arial"/>
              </a:rPr>
              <a:t>Caracterização da Informação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81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Informaçõ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crevem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fenômenos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(ou processos) que são objetos de estudo ou anál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rrespondem a atributos que podem ser caracterizados de acordo com diferentes crité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76360" y="429840"/>
            <a:ext cx="64072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Arial"/>
              </a:rPr>
              <a:t>Caracterização da Informação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55640" y="1827000"/>
            <a:ext cx="7927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3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ribu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caracterizar um atributo, é necessário identificar a classe (ou tipo) de informação que represen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siderado como característica, categoria, atributo nominal ou ordin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dem representar uma propriedade expressa através de uma grandeza: atributos com valores escalares, vetoriais, ou tensoriais, que assumem valores inteiros ou reais dentro de um certo interval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dem indicar a existência de um relacionamento (hierarquia ou ligação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atributos podem assumir diferentes tipos de dados como valores alfanuméricos, inteiros, reais ou simból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ados podem estar associados a um domínio unidimensional, bidimensional, tridimensional ou n-dimension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natureza do domínio pode ser contínuo, contínuo-discretizado ou discre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24000" y="115560"/>
            <a:ext cx="64072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Classificação de Informaçõ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1"/>
          <a:stretch/>
        </p:blipFill>
        <p:spPr>
          <a:xfrm>
            <a:off x="1062000" y="1046160"/>
            <a:ext cx="7974000" cy="5695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76360" y="429840"/>
            <a:ext cx="64072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800" spc="-1" strike="noStrike">
                <a:solidFill>
                  <a:srgbClr val="000000"/>
                </a:solidFill>
                <a:latin typeface="Arial"/>
              </a:rPr>
              <a:t>Representação visual e metáfora visual 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8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7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Representação visu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igura ou imagem que representa graficamente um conjunto de d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uxilia o usuário a perceber visualmente características que podem estar ocultas sob os d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ão objetos visuais necessários nas tarefas de exploração e análise das informa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representação visual deve ser adequada ao tipo de informação que será exibi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Metáfora visu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tiliza uma representação visual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 na maioria das vezes, mecanismos de interaç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uso de metáforas incrementa o processo de percepção por adaptar para uma nova situação processos cognitivos já empregados em outr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63640" y="306000"/>
            <a:ext cx="70200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Classes de representações visuai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50920" y="1484280"/>
          <a:ext cx="8734320" cy="5207040"/>
        </p:xfrm>
        <a:graphic>
          <a:graphicData uri="http://schemas.openxmlformats.org/drawingml/2006/table">
            <a:tbl>
              <a:tblPr/>
              <a:tblGrid>
                <a:gridCol w="2017440"/>
                <a:gridCol w="2664000"/>
                <a:gridCol w="4052880"/>
              </a:tblGrid>
              <a:tr h="35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Class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Tip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Utiliza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Gráficos 2D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Pon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Circula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Linh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Barr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Superfícies (para 3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Representação da distribuição dos elementos no espaço domínio, representação da dependência/correlação entre atribut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Íc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Glif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Obje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geomét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Elementos geométricos 2D ou 3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divers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Representação de entidades n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contexto, representação de grupos 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atributos de diversos tip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Map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de pseudo-co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de linh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de superfíc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de ícones, símbolos divers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Representação de campos escala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ou de categori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Representação de linhas de contor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de regiões, isovalor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Idem, no espaço 3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Representação de grupos 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atributos (categoriais, escalares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vetoriais, tensoriais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Diagram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Nodos e arest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Representação de relacionamen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diversos: É-um, É-parte-d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Comunicação, Seqüência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Referência, et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76360" y="429840"/>
            <a:ext cx="64072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800" spc="-1" strike="noStrike">
                <a:solidFill>
                  <a:srgbClr val="000000"/>
                </a:solidFill>
                <a:latin typeface="Arial"/>
              </a:rPr>
              <a:t>Classificação de Informaçõe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58920" y="1827000"/>
            <a:ext cx="7424640" cy="48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É importante possibilitar formas de manipulação do conjunto de dados, tanto geométrica (rotações e zoom na representação gráfica, por exemplo) como analiticamente (redução ou expansão do conjunto de dados exibido de acordo com algum critério determinado pelo usuári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8:05:56Z</dcterms:created>
  <dc:creator>Leonardo Vieira Barcelos</dc:creator>
  <dc:description/>
  <dc:language>en-US</dc:language>
  <cp:lastModifiedBy>User</cp:lastModifiedBy>
  <dcterms:modified xsi:type="dcterms:W3CDTF">2008-05-01T00:43:41Z</dcterms:modified>
  <cp:revision>42</cp:revision>
  <dc:subject/>
  <dc:title>Visualização da Informação</dc:title>
</cp:coreProperties>
</file>