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dragon" descr=""/>
          <p:cNvPicPr/>
          <p:nvPr/>
        </p:nvPicPr>
        <p:blipFill>
          <a:blip r:embed="rId2"/>
          <a:stretch/>
        </p:blipFill>
        <p:spPr>
          <a:xfrm>
            <a:off x="0" y="0"/>
            <a:ext cx="981000" cy="1066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95360" y="12193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71680" y="640080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6226200"/>
            <a:ext cx="8991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6248520"/>
            <a:ext cx="8991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mbrella"/>
              </a:rPr>
              <a:t>Construção de compiladores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04920" y="761760"/>
            <a:ext cx="9144000" cy="533160"/>
            <a:chOff x="304920" y="761760"/>
            <a:chExt cx="9144000" cy="533160"/>
          </a:xfrm>
        </p:grpSpPr>
        <p:sp>
          <p:nvSpPr>
            <p:cNvPr id="6" name=""/>
            <p:cNvSpPr/>
            <p:nvPr/>
          </p:nvSpPr>
          <p:spPr>
            <a:xfrm flipV="1">
              <a:off x="304920" y="761760"/>
              <a:ext cx="1447560" cy="533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52480" y="762120"/>
              <a:ext cx="7696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dragon" descr=""/>
          <p:cNvPicPr/>
          <p:nvPr/>
        </p:nvPicPr>
        <p:blipFill>
          <a:blip r:embed="rId2"/>
          <a:stretch/>
        </p:blipFill>
        <p:spPr>
          <a:xfrm>
            <a:off x="0" y="0"/>
            <a:ext cx="981000" cy="1066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95360" y="12193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68200" y="761760"/>
            <a:ext cx="9144000" cy="533160"/>
            <a:chOff x="268200" y="761760"/>
            <a:chExt cx="9144000" cy="533160"/>
          </a:xfrm>
        </p:grpSpPr>
        <p:sp>
          <p:nvSpPr>
            <p:cNvPr id="49" name=""/>
            <p:cNvSpPr/>
            <p:nvPr/>
          </p:nvSpPr>
          <p:spPr>
            <a:xfrm flipV="1">
              <a:off x="268200" y="761760"/>
              <a:ext cx="1447560" cy="533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15760" y="762120"/>
              <a:ext cx="7696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533520" y="6226200"/>
            <a:ext cx="8991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6248520"/>
            <a:ext cx="8991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mbrella"/>
              </a:rPr>
              <a:t>Construção de compiladores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Árvores de Deriv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Árvores: representam, passo a passo a geração de uma cadeia por uma gram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emplo: Seja a gramática de geração de Express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E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T | E + T | E -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T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F | T * F | T /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F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i | F **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árvore de derivaçã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arv_derivação_1" descr=""/>
          <p:cNvPicPr/>
          <p:nvPr/>
        </p:nvPicPr>
        <p:blipFill>
          <a:blip r:embed="rId1"/>
          <a:stretch/>
        </p:blipFill>
        <p:spPr>
          <a:xfrm>
            <a:off x="4267080" y="2819520"/>
            <a:ext cx="444528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907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erivações mais à Dire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der_can_dir_a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2540160" cy="4343400"/>
          </a:xfrm>
          <a:prstGeom prst="rect">
            <a:avLst/>
          </a:prstGeom>
          <a:ln w="0">
            <a:noFill/>
          </a:ln>
        </p:spPr>
      </p:pic>
      <p:pic>
        <p:nvPicPr>
          <p:cNvPr id="115" name="der_can_dir_b" descr=""/>
          <p:cNvPicPr/>
          <p:nvPr/>
        </p:nvPicPr>
        <p:blipFill>
          <a:blip r:embed="rId2"/>
          <a:stretch/>
        </p:blipFill>
        <p:spPr>
          <a:xfrm>
            <a:off x="5867280" y="1371600"/>
            <a:ext cx="2840040" cy="4191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429000" y="3124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gu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62120" y="11430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ada uma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gramática livre de context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. A árvore constituída inicialmente pelo nó rotulado S é uma árvore sintá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. A árvore obtida pela substituição de uma folha (nó final), rotulada N, de uma árvore sintática, pela árv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de N </a:t>
            </a:r>
            <a:r>
              <a:rPr b="0" lang="pt-BR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x1, x2, ..., xn pertencentes a P é uma árvore sintát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8380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Árvores de Deriv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arv_derivação_2" descr=""/>
          <p:cNvPicPr/>
          <p:nvPr/>
        </p:nvPicPr>
        <p:blipFill>
          <a:blip r:embed="rId1"/>
          <a:stretch/>
        </p:blipFill>
        <p:spPr>
          <a:xfrm>
            <a:off x="2286000" y="3505320"/>
            <a:ext cx="358128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62120" y="11430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as árvores de derivaçã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raiz da árvore é o símbolo de partida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s folhas da árvore são símbolos terminais (tokens), na seqüência em que ocorrem na sentença analisada;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s nós intermediários da árvore correspondem a símbolos não terminais, onde um nó cujo rótulo é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com filhos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s1, s2, s3, ..., sn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pode ocorrer apenas se houver uma regr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a gramát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8380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Árvores de Deriv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rod1" descr=""/>
          <p:cNvPicPr/>
          <p:nvPr/>
        </p:nvPicPr>
        <p:blipFill>
          <a:blip r:embed="rId1"/>
          <a:stretch/>
        </p:blipFill>
        <p:spPr>
          <a:xfrm>
            <a:off x="2438280" y="4572000"/>
            <a:ext cx="243864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mbigüidad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1143000"/>
            <a:ext cx="86104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ma gramática é ambigua se, por duas árvores sintáticas diferentes, pode-se obter a mesma sentenç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emplo:  supondo as produções: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E + E | E * E |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arv_derivação_3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73915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ssociatividade de operad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99072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Na maioria das linguagens de programação, os operadores aritméticos +, -, * e / são associativos à esquer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ssim: "3 + 4 * 5" equivale a "(3 + 4) * 5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Quando um operando, como 4, estiver entre dois operadores de mesma precedência (neste caso, + e - ), ele será associado ao operador mais à esquerda, neste caso, +. Por isto dizemos que os operadores aritméticos são associados à esquer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 gra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pr ::= Expr + Term | Expr - Term |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rm ::= Term * Numero | Termo / Numero | Nu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m terminais +, -, * , / e Numero, associa todos os operadores à esquer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6212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aminando: 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::= 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Term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tem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i="1" lang="pt-BR" sz="2400" spc="-1" strike="noStrike">
                <a:solidFill>
                  <a:srgbClr val="3333cc"/>
                </a:solidFill>
                <a:latin typeface="Times New Roman"/>
              </a:rPr>
              <a:t>Term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podem produzir outras express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3333cc"/>
                </a:solidFill>
                <a:latin typeface="Times New Roman"/>
              </a:rPr>
              <a:t>Term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nunca irá produzir um terminal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odos os símbolos + obtidos pela derivação de "</a:t>
            </a:r>
            <a:r>
              <a:rPr b="1" i="1" lang="pt-BR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pt-BR" sz="2400" spc="-1" strike="noStrike">
                <a:solidFill>
                  <a:srgbClr val="3333cc"/>
                </a:solidFill>
                <a:latin typeface="Times New Roman"/>
              </a:rPr>
              <a:t>Term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" se originarão de </a:t>
            </a:r>
            <a:r>
              <a:rPr b="1" i="1" lang="pt-BR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a derivação para obter uma sentença com mais de um terminal +, como 2 + 6+1, o não terminal </a:t>
            </a:r>
            <a:r>
              <a:rPr b="1" i="1" lang="pt-BR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de "</a:t>
            </a:r>
            <a:r>
              <a:rPr b="1" i="1" lang="pt-BR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t-BR" sz="2400" spc="-1" strike="noStrike">
                <a:solidFill>
                  <a:srgbClr val="3333cc"/>
                </a:solidFill>
                <a:latin typeface="Times New Roman"/>
              </a:rPr>
              <a:t>Term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", deverá se expandir para resultar em todos os símbolos 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ceto o últim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3333cc"/>
                </a:solidFill>
                <a:latin typeface="Times New Roman"/>
              </a:rPr>
              <a:t>Expr =&gt; Expr + Term =&gt; Expr + 1 =&gt; Expr + Term + 1 =&gt; 2 + 7 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ntão, os operadores + à esquerda devem ser utilizados primeiro do que os + da direita, resultando então em associatividade à esquer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ssociatividade de operad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erivações Canôn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143000"/>
            <a:ext cx="8305920" cy="50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siderando expressões simples como a do ex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á diversas opções para a seqüência de aplicação das regras que poderiam levar ou não ao reconhecimento da sentença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al fato dificultaria a automação desse process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é importante ter formas sistemáticas de aplicações dessas regras que levem a uma conclusão sobre a validade ou não da sentenç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Essa forma sistemática de aplicação das regras de uma gramática é estabelecida através das derivações canôn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uas formas de derivação canônica são estabelecid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mais à esquer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mais à direit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907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erivações Canôn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1143000"/>
            <a:ext cx="8305920" cy="56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1. Derivação mais à esquerd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leftmost derivation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: a opção é aplicar uma regra da gramática ao símbolo não-terminal mais à esquerda da forma sentencial sendo analisada. A correspondente seqüência de regras aplicadas é denominada a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eqüência de reconhecimento mais à esquerd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ou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leftmost pars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. D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rivação mais à direit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rightmost derivation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 o símbolo não-terminal mais à direita é sempre selecionado para ser substituído usando alguma regra da gramática. No caso desse tipo de derivação, a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eqüência de reconhecimento mais à direit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ou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rightmost pars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é o reverso da seqüência de regras associada à derivaçã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907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erivações mais à Esquer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der_can_esq_a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2905200" cy="4191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429000" y="3124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gu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der_can_esq_b" descr=""/>
          <p:cNvPicPr/>
          <p:nvPr/>
        </p:nvPicPr>
        <p:blipFill>
          <a:blip r:embed="rId2"/>
          <a:stretch/>
        </p:blipFill>
        <p:spPr>
          <a:xfrm>
            <a:off x="5943600" y="1066680"/>
            <a:ext cx="2749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2T18:33:32Z</dcterms:created>
  <dc:creator>Alexandre Cardoso</dc:creator>
  <dc:description/>
  <dc:language>en-US</dc:language>
  <cp:lastModifiedBy>Alexandre Cardoso</cp:lastModifiedBy>
  <cp:lastPrinted>2001-08-18T13:52:23Z</cp:lastPrinted>
  <dcterms:modified xsi:type="dcterms:W3CDTF">2002-10-23T18:12:03Z</dcterms:modified>
  <cp:revision>10</cp:revision>
  <dc:subject/>
  <dc:title>Árvores de Derivação</dc:title>
</cp:coreProperties>
</file>