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finições Indutiv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14300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Proposição: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aborar uma gramática (conjunto de regras) que permita especificar todas as expressões possíveis com a utilização d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como operandos e ‘+’, ‘*’, ’(‘ e ‘)’ como operadores.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a e b são express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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são expressões, então as sequências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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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são express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é uma sequência de símbolos que é uma expressão, ent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) é uma expr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4. Expressões são todas e somente as sequências de símbolos obtidas pelas aplicações das regras 1 a 3 um número finito de ve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d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ramática regula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ramática livre de contex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produções da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ramáticas regula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ão mais simples do que as produções da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ramáticas livres de contex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ramáticas livres de contex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ermitem a construçã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árvores sintátic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mais comple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 | E + T | E -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 | T * F | T / 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i | F **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 Gramática Regular equivalente se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iM |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E | - E | * E | / E | **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Gramáticas Regulares e GL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ingu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guagem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é  uma coleção de cadeias de símbolos, de comprimento finito, denominadas sentenças da linguagem, formadas pela justaposição de elementos individuais, os símbolos ou átomos da linguag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ão Métodos de Representação das Linguagen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Dixieland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umeração das cadeias de símbolos que formam as suas sentenç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Dixieland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ravés de um conjunto de leis de formação das cade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Dixieland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ravés de regras de aceitação de cade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s de Rep. Lingu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 Enumeração das cadeias de símbolos que formam as suas sentenç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ável somente a linguagens fini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das as sentenças da linguagem são apresentadas explicitamente na enume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a cadeia dada for pertencente ao conjunto, ela é parte da linguag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 L = {a, b, ab, ba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s de Rep. Lingu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Através dos conjuntos de leis de formação da linguag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j. de leis de formação: Gramá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da uma cadeia qualquer, só é possível afirmar que a mesma é parte da linguagem se, aplicando-se as leis de formação que compõem a gramática, obtém-se a cadeia em anál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 Seja a gramática dada pelo conjunto de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adeia baaa é parte da linguagem descrita pela gramática ci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914400"/>
            <a:ext cx="883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Através de regras de aceitação de cade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um conjunto de regras de aceitação das cade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decidir se uma cadeia é uma sentença da linguagem, aplicam-se as regras de acei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 = ({A, B, {0, 1}, f, A, {B}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 : f(A,0) = 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(A, 1) = B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(B, 1) = B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(B, 0) = 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Linguagem reconhecida é a de cadeias de 0's e 1's, terminando necessariamente com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étodos de Rep. Lingu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LC e Lingu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é difícil de dar exemplos de linguagens que não podem ser geradas por GL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exemplo: PASCAL, onde certos aspectos tornam impossível a especificação completa da sintaxe por uma GL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prática: complementa-se a GLC com restrições adiciona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. destas regras: todo identificador deve ser declarado antes de ser utiliz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rcí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 Seja a gramática dada por  G=({a,b}, {S}, {S::=ab | aSb, S), obtenha a linguagem definida pela me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ja a gramática dada por G = (Vn, Vt, P, S) o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n = {S,A,B} e Vt = {a,b};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P: S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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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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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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btenha a linguagem gerada pela mes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finições Indu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14300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ma definição mais concisa seria dada pela segunda 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Segunda 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= conjunto de expressões válid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a e b estão em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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estão em E, então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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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estão em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está em E, então (</a:t>
            </a:r>
            <a:r>
              <a:rPr b="0" i="1" lang="pt-BR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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) está em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bs: aqui aparece a necessidade de formalizar as soluções: necessidade de uma meta-linguagem que permita elaborar as regras da gramática que gera a linguagem desej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orma de Backus Na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ería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::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::=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::=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::=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::= (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1981080"/>
            <a:ext cx="495288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::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(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amátic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Uma gramática livre de contexto (GLC) é composta de quatro compon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conjunto de tokens, conhecidos como símbolos termin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conjunto de não-termin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conjunto de produções, usadas para definir as regras particulares à gramática em quest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símbolo de partida para a utilização das regr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malmente as gramáticas, dispositivos de geração de sentenças das linguagens que definem, podem ser caracterizadas como quádruplas ordenad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 = ( Vn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,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vocabulário não terminal da gramática G (corresponde ao conjunto de todos os elementos simbólicos dos quais a gramática se vale para definir as leis de formação das sentenças da linguagem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t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ocabulário terminal contendo os símbolos ou átomos dos quais as sentenças da linguagem são constituídas. Dá-se o nome de terminais aos elementos de Vt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amá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amá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 conjunto de todas as leis de formação utilizadas pela gramática para definir a linguagem. Para tanto, cada construção parcial, representada por um não-terminal, é definida como um conjunto de regras de formação relativas à definicão do não-terminal a ela referente. A cada uma destas regras de formação que compõem o conjunto P dá-se o nome de produção da gramática. Cada produção P tem a form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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n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t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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n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t)*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onde 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 é, no caso geral, uma cadeia contendo no mínimo um não-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um elemento de Vn, cuja propriedade ser o não-terminal que dá início ao processo de geração de sentenças. S é dito 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ímbolo inici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u o axioma da gramática.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amá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exemplo dado, tería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n = {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t = {a, b, +, *, (, 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 = regras já apresentadas para a defini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bs: ao conjunto de cadeias geradas pela gramática dá-se o nome de linguag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orma Normal de Choms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da gramática livre de contexto é equivalente a uma gramática n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Forma Normal de Chomsky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onde todas as produções podem ser colocadas nas for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homsky introduziu as Gramáticas Livres de Contexto em 1956 como parte de um estudo de linguagens naturais, enquanto a notação para a BNF aparecem em 19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ramáticas regular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ão gramáticas onde as produções são apenas da form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amáticas Reg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58600" y="225108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Gramática linear à dire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2200" y="41911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Gramática linear à esqu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8:03:09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0-23T16:24:48Z</dcterms:modified>
  <cp:revision>15</cp:revision>
  <dc:subject/>
  <dc:title>Definições Indutivas </dc:title>
</cp:coreProperties>
</file>