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907588" cy="6858000"/>
  <p:notesSz cx="6858000" cy="96583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dragon" descr=""/>
          <p:cNvPicPr/>
          <p:nvPr/>
        </p:nvPicPr>
        <p:blipFill>
          <a:blip r:embed="rId2"/>
          <a:stretch/>
        </p:blipFill>
        <p:spPr>
          <a:xfrm>
            <a:off x="0" y="0"/>
            <a:ext cx="981000" cy="10666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495360" y="1219320"/>
            <a:ext cx="8915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71680" y="6400800"/>
            <a:ext cx="8915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533520" y="6226200"/>
            <a:ext cx="899136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533520" y="6248520"/>
            <a:ext cx="899136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Umbrella"/>
              </a:rPr>
              <a:t>Construção de Compiladores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304920" y="761760"/>
            <a:ext cx="9144000" cy="533160"/>
            <a:chOff x="304920" y="761760"/>
            <a:chExt cx="9144000" cy="533160"/>
          </a:xfrm>
        </p:grpSpPr>
        <p:sp>
          <p:nvSpPr>
            <p:cNvPr id="6" name=""/>
            <p:cNvSpPr/>
            <p:nvPr/>
          </p:nvSpPr>
          <p:spPr>
            <a:xfrm flipV="1">
              <a:off x="304920" y="761760"/>
              <a:ext cx="1447560" cy="53316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52480" y="762120"/>
              <a:ext cx="769644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dragon" descr=""/>
          <p:cNvPicPr/>
          <p:nvPr/>
        </p:nvPicPr>
        <p:blipFill>
          <a:blip r:embed="rId2"/>
          <a:stretch/>
        </p:blipFill>
        <p:spPr>
          <a:xfrm>
            <a:off x="0" y="0"/>
            <a:ext cx="981000" cy="10666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495360" y="1219320"/>
            <a:ext cx="8915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268200" y="761760"/>
            <a:ext cx="9144000" cy="533160"/>
            <a:chOff x="268200" y="761760"/>
            <a:chExt cx="9144000" cy="533160"/>
          </a:xfrm>
        </p:grpSpPr>
        <p:sp>
          <p:nvSpPr>
            <p:cNvPr id="49" name=""/>
            <p:cNvSpPr/>
            <p:nvPr/>
          </p:nvSpPr>
          <p:spPr>
            <a:xfrm flipV="1">
              <a:off x="268200" y="761760"/>
              <a:ext cx="1447560" cy="53316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715760" y="762120"/>
              <a:ext cx="769644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" name=""/>
          <p:cNvSpPr/>
          <p:nvPr/>
        </p:nvSpPr>
        <p:spPr>
          <a:xfrm>
            <a:off x="533520" y="6226200"/>
            <a:ext cx="899136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33520" y="6248520"/>
            <a:ext cx="899136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Umbrella"/>
              </a:rPr>
              <a:t>Construção de Compiladores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8382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Times New Roman"/>
              </a:rPr>
              <a:t>Geração de Códig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61760" y="990360"/>
            <a:ext cx="8381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Objetivo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construir um programa que traduza nossos programas fontes em linguagem de máquina - executável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Problem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traduzir para a ling. de máquina de um computador real é tarefa complex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Possível Soluçã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máquina hipotética, conveniente, em termos de implementação - MEP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066680" y="0"/>
            <a:ext cx="83822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MEP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2120" y="838080"/>
            <a:ext cx="868680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pt-BR" sz="2400" spc="-1" strike="noStrike" u="sng">
                <a:solidFill>
                  <a:srgbClr val="000000"/>
                </a:solidFill>
                <a:uFillTx/>
                <a:latin typeface="Times New Roman"/>
              </a:rPr>
              <a:t>Observaçõ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as instruções vão sendo executadas até que seja encontrada uma instrução de parada, ou um er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a execução é linear: cada comando executado incrementa i de uma 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efeito de cada instrução está descrito em uma notação semelhante à do Pas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visa facilitar a implementação em uma máquina abstr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066680" y="0"/>
            <a:ext cx="83822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MEP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914400" y="762120"/>
            <a:ext cx="868680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emplo: operação da forma E := E1 op E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ecuçã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calcula-se primeiro E1 e E2, que são armazenados em locações de memória especiais - MEPA: na própria pilh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5562720" y="2743200"/>
            <a:ext cx="1143000" cy="3352680"/>
            <a:chOff x="5562720" y="2743200"/>
            <a:chExt cx="1143000" cy="3352680"/>
          </a:xfrm>
        </p:grpSpPr>
        <p:sp>
          <p:nvSpPr>
            <p:cNvPr id="113" name=""/>
            <p:cNvSpPr/>
            <p:nvPr/>
          </p:nvSpPr>
          <p:spPr>
            <a:xfrm>
              <a:off x="5562720" y="2743200"/>
              <a:ext cx="1143000" cy="33526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562720" y="556236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562720" y="525780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562720" y="495288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562720" y="464796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562720" y="434340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3048120" y="2743200"/>
            <a:ext cx="1143000" cy="3352680"/>
            <a:chOff x="3048120" y="2743200"/>
            <a:chExt cx="1143000" cy="3352680"/>
          </a:xfrm>
        </p:grpSpPr>
        <p:sp>
          <p:nvSpPr>
            <p:cNvPr id="120" name=""/>
            <p:cNvSpPr/>
            <p:nvPr/>
          </p:nvSpPr>
          <p:spPr>
            <a:xfrm>
              <a:off x="3048120" y="2743200"/>
              <a:ext cx="1143000" cy="33526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048120" y="556236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048120" y="525780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048120" y="495288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048120" y="464796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048120" y="434340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8001000" y="2743200"/>
            <a:ext cx="1143000" cy="3352680"/>
            <a:chOff x="8001000" y="2743200"/>
            <a:chExt cx="1143000" cy="3352680"/>
          </a:xfrm>
        </p:grpSpPr>
        <p:sp>
          <p:nvSpPr>
            <p:cNvPr id="127" name=""/>
            <p:cNvSpPr/>
            <p:nvPr/>
          </p:nvSpPr>
          <p:spPr>
            <a:xfrm>
              <a:off x="8001000" y="2743200"/>
              <a:ext cx="1143000" cy="33526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8001000" y="556236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8001000" y="525780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8001000" y="495288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001000" y="464796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8001000" y="434340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533520" y="2743200"/>
            <a:ext cx="1143000" cy="3352680"/>
            <a:chOff x="533520" y="2743200"/>
            <a:chExt cx="1143000" cy="3352680"/>
          </a:xfrm>
        </p:grpSpPr>
        <p:sp>
          <p:nvSpPr>
            <p:cNvPr id="134" name=""/>
            <p:cNvSpPr/>
            <p:nvPr/>
          </p:nvSpPr>
          <p:spPr>
            <a:xfrm>
              <a:off x="533520" y="2743200"/>
              <a:ext cx="1143000" cy="33526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33520" y="556236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33520" y="525780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33520" y="495288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33520" y="464796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33520" y="434340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703880" y="4599000"/>
            <a:ext cx="650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m+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m+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440" y="4572000"/>
            <a:ext cx="650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m+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m+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782040" y="4648320"/>
            <a:ext cx="650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m+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m+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9255600" y="4572000"/>
            <a:ext cx="650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m+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m+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4920" y="5345280"/>
            <a:ext cx="457200" cy="228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511360" y="4992840"/>
            <a:ext cx="457200" cy="228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068800" y="4710240"/>
            <a:ext cx="457200" cy="228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483320" y="4992840"/>
            <a:ext cx="457200" cy="228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337560" y="489096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v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868000" y="487692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v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868000" y="457200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v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8382960" y="48769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306640" y="457200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v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828800" y="3581280"/>
            <a:ext cx="990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737360" y="3089160"/>
            <a:ext cx="119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Cálc.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343400" y="3581280"/>
            <a:ext cx="990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267800" y="3124080"/>
            <a:ext cx="119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Cálc.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873840" y="3581280"/>
            <a:ext cx="99072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783480" y="3124080"/>
            <a:ext cx="12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v1 op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066680" y="0"/>
            <a:ext cx="83822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MEP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914400" y="762120"/>
            <a:ext cx="868680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000000"/>
                </a:solidFill>
                <a:uFillTx/>
                <a:latin typeface="Times New Roman"/>
              </a:rPr>
              <a:t>Algumas instruções possíve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CRCT k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: carregar constante -  M[s] = k </a:t>
            </a:r>
            <a:r>
              <a:rPr b="0" lang="pt-BR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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s = s +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CRVL n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: carregar valor - M[s] = M[n] </a:t>
            </a:r>
            <a:r>
              <a:rPr b="0" lang="pt-BR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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s = s +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SOMA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: operação de valor - M[s-1] = M[s-1] + M[s] </a:t>
            </a:r>
            <a:r>
              <a:rPr b="0" lang="pt-BR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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s = s +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SUBT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: operação de subtração- M[s-1] = M[s-1] - M[s] </a:t>
            </a:r>
            <a:r>
              <a:rPr b="0" lang="pt-BR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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s = s +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MULT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: op. de multiplicação - M[s-1] = M[s-1] * M[s] </a:t>
            </a:r>
            <a:r>
              <a:rPr b="0" lang="pt-BR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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s = s +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DIVI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: op. de divisão -  M[s-1] = M[s-1] / M[s] </a:t>
            </a:r>
            <a:r>
              <a:rPr b="0" lang="pt-BR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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s = s +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INVR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: inverter sinal - M[s] = - M[s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CONJ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: se M[s-1] = 1 e M[s] = 1 então M[s-1] = 1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senão M[s-1] = 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NEGA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: negação - M[s] = 1 - M[s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inda: 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CMME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CMMA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CMIG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CMDG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CMEG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CMAG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762120" y="91404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Aspectos da Geração de Códig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Implicações do </a:t>
            </a:r>
            <a:r>
              <a:rPr b="0" i="1" lang="pt-BR" sz="2400" spc="-1" strike="noStrike">
                <a:solidFill>
                  <a:srgbClr val="000000"/>
                </a:solidFill>
                <a:latin typeface="Times New Roman"/>
              </a:rPr>
              <a:t>hardware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Geração de código, como fazê-la?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Tratamento das </a:t>
            </a:r>
            <a:r>
              <a:rPr b="0" i="1" lang="pt-BR" sz="2400" spc="-1" strike="noStrike">
                <a:solidFill>
                  <a:srgbClr val="000000"/>
                </a:solidFill>
                <a:latin typeface="Times New Roman"/>
              </a:rPr>
              <a:t>variáveis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Tratamento de </a:t>
            </a:r>
            <a:r>
              <a:rPr b="0" i="1" lang="pt-BR" sz="2400" spc="-1" strike="noStrike">
                <a:solidFill>
                  <a:srgbClr val="000000"/>
                </a:solidFill>
                <a:latin typeface="Times New Roman"/>
              </a:rPr>
              <a:t>precedências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e </a:t>
            </a:r>
            <a:r>
              <a:rPr b="0" i="1" lang="pt-BR" sz="2400" spc="-1" strike="noStrike">
                <a:solidFill>
                  <a:srgbClr val="000000"/>
                </a:solidFill>
                <a:latin typeface="Times New Roman"/>
              </a:rPr>
              <a:t>associatividade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Tratamento de </a:t>
            </a:r>
            <a:r>
              <a:rPr b="0" i="1" lang="pt-BR" sz="2400" spc="-1" strike="noStrike">
                <a:solidFill>
                  <a:srgbClr val="000000"/>
                </a:solidFill>
                <a:latin typeface="Times New Roman"/>
              </a:rPr>
              <a:t>estruturas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de program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Tratamento de </a:t>
            </a:r>
            <a:r>
              <a:rPr b="0" i="1" lang="pt-BR" sz="2400" spc="-1" strike="noStrike">
                <a:solidFill>
                  <a:srgbClr val="000000"/>
                </a:solidFill>
                <a:latin typeface="Times New Roman"/>
              </a:rPr>
              <a:t>subrotinas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Geração de código através da gramática de atribut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1066680" y="-360"/>
            <a:ext cx="8382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Times New Roman"/>
              </a:rPr>
              <a:t>Geração de Códig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762120" y="91404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Hardware = constante evolução (!!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Conjuntos de instruções diferentes para cada tipo de máqui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 u="sng">
                <a:solidFill>
                  <a:srgbClr val="000000"/>
                </a:solidFill>
                <a:uFillTx/>
                <a:latin typeface="Times New Roman"/>
              </a:rPr>
              <a:t>Problemas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nem sempre a máquina possui a instrução desejada </a:t>
            </a:r>
            <a:r>
              <a:rPr b="0" lang="pt-BR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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necessidade de conseguir um conjunto de instruções que faça o que desejamo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daí, podemos ter vários conjuntos de instruções que façam a mesma coisa (o que desejamo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CPU: conjuntos diferentes de registradores: , teremos diferentes manipulações entre memória e registradores segundo a disponibilidade dos mesmos na CPU em uso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title"/>
          </p:nvPr>
        </p:nvSpPr>
        <p:spPr>
          <a:xfrm>
            <a:off x="1066680" y="-360"/>
            <a:ext cx="8382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Implicações do hardw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8382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Implicações do hardw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62120" y="838080"/>
            <a:ext cx="86868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 u="sng">
                <a:solidFill>
                  <a:srgbClr val="000000"/>
                </a:solidFill>
                <a:uFillTx/>
                <a:latin typeface="Times New Roman"/>
              </a:rPr>
              <a:t>Problemas (continuação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Otimizar o número de acessos à memória é um aspecto que deve ser considerado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quesitos relativos à forma em que são feitos os acessos (endereçamentos) aos dados que usamos nos programa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Máquin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de 2-endereços: para cada instrução temos que ter presentes o código da instrução (indicando o que vai ser feito) e um par de endereços na memóri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de 1 endereço: Substituindo-se o registrador pelo próprio acumulador da CPU </a:t>
            </a:r>
            <a:r>
              <a:rPr b="0" lang="pt-BR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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ada instrução passa a ter apenas dois campos, um contendo seu código e outro contendo o único endereço a ser acessado na memóri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066680" y="0"/>
            <a:ext cx="83822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Implicações do hardw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máquinas" descr=""/>
          <p:cNvPicPr/>
          <p:nvPr/>
        </p:nvPicPr>
        <p:blipFill>
          <a:blip r:embed="rId1"/>
          <a:stretch/>
        </p:blipFill>
        <p:spPr>
          <a:xfrm>
            <a:off x="1676520" y="838080"/>
            <a:ext cx="7467480" cy="534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066680" y="0"/>
            <a:ext cx="83822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Geração de Códig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62120" y="1219320"/>
            <a:ext cx="868680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 u="sng">
                <a:solidFill>
                  <a:srgbClr val="000000"/>
                </a:solidFill>
                <a:uFillTx/>
                <a:latin typeface="Times New Roman"/>
              </a:rPr>
              <a:t>Estratégias de Geração de Códig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4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criar regras para a aplicação de conjuntos de instruções que cumpram as funcionalidades declaradas nas instruções do código fonte, que está sintaticamente correto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4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usamos a própria árvore de derivação sintática para definir qual será a sequência de operações desejada, em um processo conhecido como geração dirigida pela sintax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066680" y="0"/>
            <a:ext cx="83822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Dificulda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2120" y="838080"/>
            <a:ext cx="868680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lvl="1" marL="683280" indent="-262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Suponha a instrução: </a:t>
            </a:r>
            <a:r>
              <a:rPr b="1" lang="pt-BR" sz="2800" spc="-1" strike="noStrike">
                <a:solidFill>
                  <a:srgbClr val="ff3300"/>
                </a:solidFill>
                <a:latin typeface="Times New Roman"/>
              </a:rPr>
              <a:t>a:= b + c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Gerando códigos de três endereços, teríamos divers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formas de implementa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1. MOV b,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DD c,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i="1" lang="pt-BR" sz="2400" spc="-1" strike="noStrike">
                <a:solidFill>
                  <a:srgbClr val="3333cc"/>
                </a:solidFill>
                <a:latin typeface="Arial"/>
              </a:rPr>
              <a:t>custo =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Assumindo que R</a:t>
            </a:r>
            <a:r>
              <a:rPr b="0" lang="pt-BR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, R</a:t>
            </a:r>
            <a:r>
              <a:rPr b="0" lang="pt-BR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e R</a:t>
            </a:r>
            <a:r>
              <a:rPr b="0" lang="pt-BR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contêm os endereços de a, b e c, respectivamente, podemos usa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OV *R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,*R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Arial"/>
              </a:rPr>
              <a:t>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DD *R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,*R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pt-BR" sz="2400" spc="-1" strike="noStrike">
                <a:solidFill>
                  <a:srgbClr val="3333cc"/>
                </a:solidFill>
                <a:latin typeface="Arial"/>
              </a:rPr>
              <a:t>custo =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257800" y="2057400"/>
            <a:ext cx="4362480" cy="202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2. MOV b,R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Arial"/>
              </a:rPr>
              <a:t>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DD c,R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OV R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,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pt-BR" sz="2400" spc="-1" strike="noStrike">
                <a:solidFill>
                  <a:srgbClr val="3333cc"/>
                </a:solidFill>
                <a:latin typeface="Arial"/>
              </a:rPr>
              <a:t>custo =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066680" y="0"/>
            <a:ext cx="83822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Dificulda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62120" y="838080"/>
            <a:ext cx="868680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lvl="1" marL="713160" indent="-2743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Assumindo que R</a:t>
            </a:r>
            <a:r>
              <a:rPr b="0" lang="pt-BR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e R</a:t>
            </a:r>
            <a:r>
              <a:rPr b="0" lang="pt-BR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contêm os valores de b e c, respectivamente, e que o valor de b não é necessário após a atribuição, podemos t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536120" indent="-219240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DD R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,R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OV R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,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pt-BR" sz="2400" spc="-1" strike="noStrike">
                <a:solidFill>
                  <a:srgbClr val="3333cc"/>
                </a:solidFill>
                <a:latin typeface="Arial"/>
              </a:rPr>
              <a:t>custo =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000000"/>
                </a:solidFill>
                <a:latin typeface="Arial"/>
              </a:rPr>
              <a:t>Conclusõ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necessidade de gerenciamento de endereços de forma efic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vantagens em se manter o l-value ou r-value de um nome num registrador, caso possível, se ele for utilizado num futuro próxim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066680" y="0"/>
            <a:ext cx="83822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MEP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62120" y="838080"/>
            <a:ext cx="868680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000000"/>
                </a:solidFill>
                <a:uFillTx/>
                <a:latin typeface="Times New Roman"/>
              </a:rPr>
              <a:t>Máquina a pilha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, de forma a acomodar o Pascal, que é cheio de procedimentos recursivo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000000"/>
                </a:solidFill>
                <a:uFillTx/>
                <a:latin typeface="Times New Roman"/>
              </a:rPr>
              <a:t>Três partes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região de programa P: contém as instruções da MEP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região da pilha de dados M: contém os valores manipulados pelas instruçõ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vetor dos registradores de base D: contém endereços para a região M, ou, valores indefini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gistra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registrador i: endereço da próx. Instrução a ser executada: P[i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registrador s: indica o elemento no topo da pilha, cujo valor será dado: M[s]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3T13:56:01Z</dcterms:created>
  <dc:creator>Alexandre Cardoso</dc:creator>
  <dc:description/>
  <dc:language>en-US</dc:language>
  <cp:lastModifiedBy>Alexandre Cardoso</cp:lastModifiedBy>
  <cp:lastPrinted>2001-08-18T13:52:23Z</cp:lastPrinted>
  <dcterms:modified xsi:type="dcterms:W3CDTF">2003-01-30T16:15:31Z</dcterms:modified>
  <cp:revision>13</cp:revision>
  <dc:subject/>
  <dc:title>Slide sem título </dc:title>
</cp:coreProperties>
</file>