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907588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dragon" descr=""/>
          <p:cNvPicPr/>
          <p:nvPr/>
        </p:nvPicPr>
        <p:blipFill>
          <a:blip r:embed="rId2"/>
          <a:stretch/>
        </p:blipFill>
        <p:spPr>
          <a:xfrm>
            <a:off x="0" y="0"/>
            <a:ext cx="981000" cy="10666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95360" y="12193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71680" y="640080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6226200"/>
            <a:ext cx="8991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33520" y="6248520"/>
            <a:ext cx="8991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Umbrella"/>
              </a:rPr>
              <a:t>CC1 - GERAÇÃO DE CÓDIGO - INTROD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04920" y="761760"/>
            <a:ext cx="9144000" cy="533160"/>
            <a:chOff x="304920" y="761760"/>
            <a:chExt cx="9144000" cy="533160"/>
          </a:xfrm>
        </p:grpSpPr>
        <p:sp>
          <p:nvSpPr>
            <p:cNvPr id="6" name=""/>
            <p:cNvSpPr/>
            <p:nvPr/>
          </p:nvSpPr>
          <p:spPr>
            <a:xfrm flipV="1">
              <a:off x="304920" y="761760"/>
              <a:ext cx="1447560" cy="533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52480" y="762120"/>
              <a:ext cx="7696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dragon" descr=""/>
          <p:cNvPicPr/>
          <p:nvPr/>
        </p:nvPicPr>
        <p:blipFill>
          <a:blip r:embed="rId2"/>
          <a:stretch/>
        </p:blipFill>
        <p:spPr>
          <a:xfrm>
            <a:off x="0" y="0"/>
            <a:ext cx="981000" cy="1066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95360" y="12193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68200" y="761760"/>
            <a:ext cx="9144000" cy="533160"/>
            <a:chOff x="268200" y="761760"/>
            <a:chExt cx="9144000" cy="533160"/>
          </a:xfrm>
        </p:grpSpPr>
        <p:sp>
          <p:nvSpPr>
            <p:cNvPr id="49" name=""/>
            <p:cNvSpPr/>
            <p:nvPr/>
          </p:nvSpPr>
          <p:spPr>
            <a:xfrm flipV="1">
              <a:off x="268200" y="761760"/>
              <a:ext cx="1447560" cy="533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15760" y="762120"/>
              <a:ext cx="7696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533520" y="6226200"/>
            <a:ext cx="8991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6248520"/>
            <a:ext cx="8991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Umbrella"/>
              </a:rPr>
              <a:t>CC1 - GERAÇÃO DE CÓDIGO - INTRODU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Geração de Códi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15000" y="434340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ependente da linguagem e do paradig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fluxo_ger_código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9329760" cy="2808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924680" y="4314960"/>
            <a:ext cx="1981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m grande                parte, independente da linguagem e do paradig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350532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m grande parte, independente da linguagem e do paradig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990720"/>
            <a:ext cx="0" cy="49528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772400" y="990720"/>
            <a:ext cx="0" cy="49528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066680" y="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Códigos de Três Endereç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762120"/>
            <a:ext cx="86868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xemplo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pressão: a = b + c * d seria dada por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1:= c *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:= b + t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O comando while (i++ &lt;= k) x[i] = 0; x[0] = 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1: if i &gt; k goto _L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x[i] :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oto _L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_L2: x[0] :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62120" y="762120"/>
            <a:ext cx="86868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epresentações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Quádruplas: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tabelas com quatro colun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Tripla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: não utiliza variáveis temporária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Códigos de Três Endereç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1752480"/>
            <a:ext cx="5410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52480" y="2133720"/>
            <a:ext cx="54104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51160" y="1717560"/>
            <a:ext cx="451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perador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g1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g2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9720" y="2590920"/>
            <a:ext cx="397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1752480"/>
            <a:ext cx="5335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9072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6920" y="266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30000" y="2174760"/>
            <a:ext cx="4012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57400" y="4343400"/>
            <a:ext cx="417996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57400" y="4724280"/>
            <a:ext cx="41799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56800" y="4308480"/>
            <a:ext cx="34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perador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g1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g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5000" y="5181480"/>
            <a:ext cx="30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57400" y="4343400"/>
            <a:ext cx="5335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95640" y="46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11480" y="525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29160" y="4765680"/>
            <a:ext cx="30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066680" y="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Código Intermediár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914400"/>
            <a:ext cx="86868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Vantage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esma entrada, com diferentes formas de saíd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timização de código independe da máqui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Linguagens Intermediári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Gráfic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Árvores Sintá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AG´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Linea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otação pós-f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ódigo de três endereç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066680" y="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Código Intermediár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914400"/>
            <a:ext cx="86868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Árvores Sintá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upondo a instrução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a:= b * -c + b * -c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teríamos a árv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arv_sint_ger_cod1" descr=""/>
          <p:cNvPicPr/>
          <p:nvPr/>
        </p:nvPicPr>
        <p:blipFill>
          <a:blip r:embed="rId1"/>
          <a:stretch/>
        </p:blipFill>
        <p:spPr>
          <a:xfrm>
            <a:off x="2735280" y="1969920"/>
            <a:ext cx="38908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066680" y="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Código Intermediár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914400"/>
            <a:ext cx="86868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AG´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upondo a instrução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a:= b * -c + b * -c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teríamos o DA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dag1" descr=""/>
          <p:cNvPicPr/>
          <p:nvPr/>
        </p:nvPicPr>
        <p:blipFill>
          <a:blip r:embed="rId1"/>
          <a:stretch/>
        </p:blipFill>
        <p:spPr>
          <a:xfrm>
            <a:off x="3124080" y="2057400"/>
            <a:ext cx="29163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66680" y="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DAG´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914400"/>
            <a:ext cx="86868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Considere o bloco abaixo, com subexpressões com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{  int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 = a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x = b + n * n  + 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 = n * n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y = d *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 exemplo apresen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dois nós com operadores idên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possibilidade de combinação dos nós em um DAG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066680" y="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DAG´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dag_exemplo1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7086600" cy="49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66680" y="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DAG´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dag_exemplo2" descr=""/>
          <p:cNvPicPr/>
          <p:nvPr/>
        </p:nvPicPr>
        <p:blipFill>
          <a:blip r:embed="rId1"/>
          <a:stretch/>
        </p:blipFill>
        <p:spPr>
          <a:xfrm>
            <a:off x="1600200" y="990720"/>
            <a:ext cx="695016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066680" y="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Códigos de Três Endereç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762120"/>
            <a:ext cx="86868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qüência de instruções envolvendo operações binárias ou unárias e uma atribuiçã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rês endereços”: instrução com no máximo três variáveis: duas para os operadores binários e uma para o resultad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xpressões envolvendo diversas operações são decompostas nesse código em uma série de instruçõ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btém-se um código mais próximo da estrutura da linguagem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assembly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uatro tipos básicos de instruções: expressões com atribuição, desvios, invocação de rotinas e acesso indexado e indire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66680" y="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Códigos de Três Endereç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762120"/>
            <a:ext cx="86868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ipos de comando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tribuição x:= y op z (binário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x: = op y (unário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ópia x:= 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alto Incondicional goto 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alto Condicional if x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oprel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y goto L {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oprel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pode ser: &lt;, =, &gt;=,...}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aram x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all p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eturn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ndexaçã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ndereços e pontei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6:39:07Z</dcterms:created>
  <dc:creator>Alexandre Cardoso</dc:creator>
  <dc:description/>
  <dc:language>en-US</dc:language>
  <cp:lastModifiedBy>Alexandre Cardoso</cp:lastModifiedBy>
  <cp:lastPrinted>2001-08-18T13:52:23Z</cp:lastPrinted>
  <dcterms:modified xsi:type="dcterms:W3CDTF">2003-01-23T13:58:11Z</dcterms:modified>
  <cp:revision>31</cp:revision>
  <dc:subject/>
  <dc:title>Slide sem título </dc:title>
</cp:coreProperties>
</file>