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C1: ANÁLISE SINTÁTICA LA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761760"/>
            <a:ext cx="9144000" cy="533160"/>
            <a:chOff x="304920" y="761760"/>
            <a:chExt cx="9144000" cy="533160"/>
          </a:xfrm>
        </p:grpSpPr>
        <p:sp>
          <p:nvSpPr>
            <p:cNvPr id="6" name=""/>
            <p:cNvSpPr/>
            <p:nvPr/>
          </p:nvSpPr>
          <p:spPr>
            <a:xfrm flipV="1">
              <a:off x="30492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5248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68200" y="761760"/>
            <a:ext cx="9144000" cy="533160"/>
            <a:chOff x="268200" y="761760"/>
            <a:chExt cx="9144000" cy="533160"/>
          </a:xfrm>
        </p:grpSpPr>
        <p:sp>
          <p:nvSpPr>
            <p:cNvPr id="47" name=""/>
            <p:cNvSpPr/>
            <p:nvPr/>
          </p:nvSpPr>
          <p:spPr>
            <a:xfrm flipV="1">
              <a:off x="26820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1576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C1: ANÁLISE SINTÁTICA LA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Análise Sintática LAL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838080"/>
            <a:ext cx="914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838080"/>
            <a:ext cx="914400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écnica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lookaheadL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método muito utilizado na prát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tabelas mais simples que o método LR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de forma geral, o tamanho das tabelas concebidas no método LALR é igual àquelas concebidas pelo método LAL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o método LALR otimiza os estados LR(1), que podem dar origem a centenas de estados para uma gramática de pequeno por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 observação dos estados LR(1) permite concluir que há estados com itens de corpos iguais, diferenciados apenas pelos objetos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lookahea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 união de tais itens em um único estado é uma estratégia relativa e este méto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stados LAL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838080"/>
            <a:ext cx="9144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a obtenção dos estados LALR, estados que apresentam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ens com corpos iguai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ã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did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para a gramática acima, já apresentada na aula anterior, tería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914400"/>
            <a:ext cx="4038480" cy="13518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S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S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 A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Ab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. A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5. B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67680" y="3276720"/>
            <a:ext cx="180720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stado I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Times New Roman"/>
              </a:rPr>
              <a:t>49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1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b, b|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Ab,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1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,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1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x,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34560" y="3276720"/>
            <a:ext cx="188316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stado I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Times New Roman"/>
              </a:rPr>
              <a:t>58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1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b|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stado I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Times New Roman"/>
              </a:rPr>
              <a:t>712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pt-BR" sz="1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,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stado I</a:t>
            </a:r>
            <a:r>
              <a:rPr b="1" lang="pt-BR" sz="2400" spc="-1" strike="noStrike" baseline="-25000">
                <a:solidFill>
                  <a:srgbClr val="ff3300"/>
                </a:solidFill>
                <a:latin typeface="Times New Roman"/>
              </a:rPr>
              <a:t>1113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pt-BR" sz="1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b|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Tabela LAL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838080"/>
            <a:ext cx="9144000" cy="59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sos da Ger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Obter o conjunto de estado LR(1) =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Para cada núcleo do conjunto de estados LR(1), encontre todos os estados que apresentam o mesmo núcleo e recoloque-os por um novo estado que represente a união dos mesm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  Seja C´ = {J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J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J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,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.. J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} os elementos resultantes de tal união. As ações para cada estado são construídas da mesma forma que fizemos para o analisador LR(1). Se houver conflito, a gramática não é LAL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. A seçã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go 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obtida considerando J como a união de um ou mais itens, ou seja, J = 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U 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 ... U 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os núcleos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go 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X),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go 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X), ...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go 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X) = K, entã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go 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J,X) = 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Tabela LAL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3880" y="1066680"/>
          <a:ext cx="777240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066680"/>
                    <a:ext cx="777240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3520" y="838080"/>
            <a:ext cx="91440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olver em sa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Seja a gramática dada pelas prod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S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CC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C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bC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 C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elabore o conjunto de estados LR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construa a tabela de análise sintática LA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prove o bom funcionamento da tabela, considerando  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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bbdd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A gramática anterior é do tipo SLR? Por 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ostos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Explique por que não pode haver conflitos do tipo deslocamento-deslocamento em um autômato 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xercí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1932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Exercí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838080"/>
            <a:ext cx="91440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ostos (cont.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Seja a gramática dada pelas prod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S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S x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S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strua os autômatos SLR, LR(1) e LALR para a mes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. Mostre que a gramática dada pelas prod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a | bAc | dc | bda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LALR, mas, não é SL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. Considere a gramática dada pelas produ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+ T | T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TF | F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F* | a |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construir a tabela de análise sintática SLR para a mes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construir a tabela de análise LAL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8:43:23Z</dcterms:created>
  <dc:creator>Alexandre Cardoso</dc:creator>
  <dc:description/>
  <dc:language>en-US</dc:language>
  <cp:lastModifiedBy>Alexandre Cardoso</cp:lastModifiedBy>
  <cp:lastPrinted>2001-08-18T13:52:23Z</cp:lastPrinted>
  <dcterms:modified xsi:type="dcterms:W3CDTF">2003-01-14T17:05:35Z</dcterms:modified>
  <cp:revision>84</cp:revision>
  <dc:subject/>
  <dc:title>Tabela SLR - Construção</dc:title>
</cp:coreProperties>
</file>