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ANÁLISE SINTÁTICA 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7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ANÁLISE SINTÁTICA 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838080"/>
            <a:ext cx="90676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SR 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hift Reduc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étodo bottom-up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ura reduzir a cadeia de entrada até o símbolo inicial S da gram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idéia básica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bstituir um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 lado direito de uma produção por um símbolo do lado esquerdo da citada produ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a gramática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1. S::= aAcBe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2,3. A::= Ab | b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4. B::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, supondo a entrada dada por abbcde, teríamos o procedimento de varrer a dita cadeia e ir reduzindo, conforme as regras gramaticais, trocando pelos elementos não-terminais correspond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fund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90676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Varrend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bcde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erifica-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ão é possível reduzir ‘a’, passa-se para o próximo símbol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símbolo ‘b’ pode ser reduzido para A, ficamos com aAbc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parte Ab pode ser reduzida, ficamos com aAc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próximo símbolo a ser reduzido é ‘d’, ficamos com aAcB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odemos reduzir toda a cadeia para o símbolo inicial S, reconhecendo a mes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stão básica: escolher o que será reduzido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fund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838080"/>
            <a:ext cx="9067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Definição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redutendo: elemento que sofre a redução em cada passo do proce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a gramática de expressões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1. 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+E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2. 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*E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3. 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(E)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4. 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 derivações mais à direita, tería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+E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+E*E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+E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elemento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redutendo para a forma sentencial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uma vez que pode ser trocado pelo não-terminal E, usando-se a regra 1 das produções gramatic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exem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19320"/>
            <a:ext cx="82296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orma Sentencial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edutendo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d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d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+ E * 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* 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*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+ 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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+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81080"/>
            <a:ext cx="868680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8686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12952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2952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8380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Há dois problemas a serem solucion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como localizar o redutendo (?) na forma sentencial à direi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que produção aplicar no caso de mais de uma possibilidade (?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Forma conveniente de implement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ilha: inicialmente vazia, com o final marcado por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adeia de ent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arser varre as possibilidades de redução, até que a pilha contenha o símbolo inicial e a cadeia de entrada esteja vaz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762120"/>
            <a:ext cx="822960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ilha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ção do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E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E*i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E*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+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914400"/>
            <a:ext cx="807732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SR - observa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90676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á quatro ações básicas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próximo símbolo é empilh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duz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analisador associa o redutendo com o topo da pilha, a partir daí, decide o não-terminal que será colocado na pilha no lugar do reduten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ceit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analisador encontra sucesso no reconheci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rr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 parser encontra um erro de sintaxe e ativa uma rotina para tratar tal er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alisador LR -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762120"/>
            <a:ext cx="90676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Observações inici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tarefa básica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contrar o nó mais à esquerda que ainda não foi construído, mas, cujos filhos já foram todos construí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descritor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qüência de filhos já construídos: redutendo -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redu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conectar os filhos ao nó que os derivo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há problemas relativos à recursão à esquer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Técnica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ordadas no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1. Método SLR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ácil de implementar, mas, bastante fr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2. Método LR canônico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eficiente, com grande consumo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3. Método LALR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iciente e útil - ‘burro de carga’ da análise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s - Análise 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838080"/>
            <a:ext cx="90676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ercício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idere a gramática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(L)        2. S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          3. L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L,S     4. L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construa uma derivação mais à direita para a cadeia (a,(a,a)) e mostre quem seriam os redutendos para cada forma senten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mostre os passos de um analisador SR para reconhecer a cade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mostre, num processo de construç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a árvore gramatical, os passos realizados durante a análise de empilhar e reduzir (S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5:43:56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2-04T18:13:44Z</dcterms:modified>
  <cp:revision>36</cp:revision>
  <dc:subject/>
  <dc:title>Slide sem título </dc:title>
</cp:coreProperties>
</file>