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C 1 - ANÁLISE SINTÁTICA LL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761760"/>
            <a:ext cx="9144000" cy="533160"/>
            <a:chOff x="304920" y="761760"/>
            <a:chExt cx="9144000" cy="533160"/>
          </a:xfrm>
        </p:grpSpPr>
        <p:sp>
          <p:nvSpPr>
            <p:cNvPr id="6" name=""/>
            <p:cNvSpPr/>
            <p:nvPr/>
          </p:nvSpPr>
          <p:spPr>
            <a:xfrm flipV="1">
              <a:off x="30492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5248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68200" y="761760"/>
            <a:ext cx="9144000" cy="533160"/>
            <a:chOff x="268200" y="761760"/>
            <a:chExt cx="9144000" cy="533160"/>
          </a:xfrm>
        </p:grpSpPr>
        <p:sp>
          <p:nvSpPr>
            <p:cNvPr id="47" name=""/>
            <p:cNvSpPr/>
            <p:nvPr/>
          </p:nvSpPr>
          <p:spPr>
            <a:xfrm flipV="1">
              <a:off x="26820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1576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C 1 - ANÁLISE SINTÁTICA LL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liminação da Recursão à Esquer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1031760"/>
            <a:ext cx="9067680" cy="49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ponhamos o par de produções gramaticais, com recursão à esquer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A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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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nd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não inicia-se c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recursão à esquerda pode ser eliminada por novas produções do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A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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’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 A’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rcício: Elimine a recursão à esquerda para a gramática de express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1. E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2. | E +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4572000"/>
            <a:ext cx="413064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3. T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4. | T * 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84440" y="4495680"/>
            <a:ext cx="137880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5. F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6. |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7. | (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Implementação de um “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066680"/>
            <a:ext cx="87631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olução do item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a condição inicial, a pilha contém o delimitador $ e o símbolo sentencial E; a lista com a sentença contém os sete símbolos terminais e o delimitador 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63760" y="2701800"/>
            <a:ext cx="7010280" cy="1067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63760" y="323532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68520" y="270180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35760" y="270180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63760" y="3768840"/>
            <a:ext cx="701028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63760" y="430200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68520" y="3768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35760" y="3768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63760" y="4835520"/>
            <a:ext cx="701028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63760" y="536904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68520" y="4835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5760" y="4835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266688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duç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Pilh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331164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id+id)*id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68320" y="376884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´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$E´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id+id)*id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68320" y="48355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T´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$E´T´)E(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id+id)*id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92440" y="4351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T´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$E´T´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id+id)*id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30240" y="53881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$E´T´)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+id)*id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701028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152388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990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990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057400"/>
            <a:ext cx="701028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59092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3124080"/>
            <a:ext cx="7010280" cy="1067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65760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65240" y="955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duç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Pilh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1600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´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$E´T´)E´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+id)*id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5560" y="211284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T´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$E´T´)E´T´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+id)*id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2590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$E´T´)E´T´i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+id)*id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49320" y="31561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$E´T´)E´T´i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+id)*id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36576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´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$E´T´)E´T´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id)*id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96960" y="4203720"/>
            <a:ext cx="7010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96960" y="473724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2080" y="420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68960" y="420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5602320"/>
            <a:ext cx="7010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613584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5602320"/>
            <a:ext cx="324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78120" y="422424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´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TE´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$E´T´)E´T+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id)*id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98640" y="47671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$E´T´)E´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)*id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48120" y="560376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5029200"/>
            <a:ext cx="4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Implementação de um “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990720"/>
            <a:ext cx="8915400" cy="43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Considere a gramática para estrutura de listas, cujas produções são dadas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1. S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a | b | (T)         2. T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T,S          3. T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Obtenha derivações mais à esquerda e mais à direita para as cade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(a,(a,a))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(((a,a),b,(a))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elimine a recursão à esquerda das produções gramatic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encontre os conjuntos First e Follow dos elementos da gramát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) Seria possível implementar um parser, como visto nos slides anteriores para esta gramática? Justif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990720"/>
            <a:ext cx="891540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Considere a gramática para estrutura de listas, cujas produções são dadas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1. E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TE´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2. E´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+E          3. E´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4. T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FT´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5. T´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T             6. T´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7. F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PF´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8. F´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*F            9. P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10. P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a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11. P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b            12. P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encontre os conjuntos First e Follow dos elementos da gramát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A gramática é do tipo LL(1)? Por 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Construa uma tabela de análise sintática para esta gramática, e, usando uma cadeia de sua escolha, prove o bom funcionamento da mes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liminação da Recursão à Esquer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838080"/>
            <a:ext cx="9067680" cy="45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crição do Proces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siderando as produções: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| A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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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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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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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nd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não inicia-se com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eliminação da recursão à esquerda é d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’|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’|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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’ e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1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’|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’|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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’|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Obs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e algoritmo não elimina a recursão que envolve derivações de dois ou mais passos, tal como na gramá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7560" y="4648320"/>
            <a:ext cx="4215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1,2. S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Aa |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3,4,5. A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Ac | Sb |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serve para S </a:t>
            </a:r>
            <a:r>
              <a:rPr b="1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Aa </a:t>
            </a:r>
            <a:r>
              <a:rPr b="1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da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liminação do Retroces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838080"/>
            <a:ext cx="906768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o já vimos, as restrições à gramática seri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Toda produção é da forma A::=Xa, onde X é um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Se existem produções da forma A::= 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| 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 |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|...|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então os termos 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ão diferentes entre s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a gramática que satisfaz as condições s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::= a     | b    | +EE   | *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restrições muito severas para serem adotadas na prátic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nálise LL(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990720"/>
            <a:ext cx="891540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LL(k) - "left to right, leftmost derivation with k lookahead symbo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Idéia básica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basta olharmos "no máximo k" símbolos da cadeia à frente do ponto em que estamos, para decidirmos sobre qual regra devemos aplic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Ideal: apenas um símbolo (k=1) é necessári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xemplo: Seja a gramática d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 ::= aB |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 ::= dC |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 ::=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3733920"/>
            <a:ext cx="4038480" cy="2209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42670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57800" y="380988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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3733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4267080"/>
            <a:ext cx="3581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nálise LL(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990720"/>
            <a:ext cx="891540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upondo a  gramática  dada 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::= AS   | 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::= aB   |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::= bA   |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::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encontre os conjuntos Firs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) dos elementos da Gramát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Guie o reconhecimento e a aplicação de regras gramaticais, segundo os conjuntos obtidos no item 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A Gramática acima é do tipo LL(k)? Qual o valor de 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Implementação de um “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990720"/>
            <a:ext cx="89154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nalisador Descend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partir de uma gramática do tipo LL(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 implementação contém uma pilha, a cadeia de entrada e consulta os conjuntos Firs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) para tomar a decisão do que empilhar/desempilh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quando o topo da pilha contiver um não-terminal, ele será substituído, na pilha, pela cadeia de símbolos da opção escolhida, em acordo com os conjuntos Firs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na implementação, substitua as produções gramaticais por uma estrutura de dados conven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Implementação de um “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n_sint_ll(1)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56595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Implementação de um “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990720"/>
            <a:ext cx="891540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Considere a gramática dada pelas prod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1. E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2. E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E +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Elimine a recursão à esquerda, obtendo novas regras gramatic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Obtenha os conjuntos Firs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Como poderia, de acordo com as especificações anteriores, funcionar um parser no processo de reconhecimento da cadeia: (id+id)*id$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2209680"/>
            <a:ext cx="413064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3. T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4. T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T * 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55120" y="2209680"/>
            <a:ext cx="16164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5. F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6. F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(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Implementação de um “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762120"/>
            <a:ext cx="891540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olução do item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1. E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TE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2,3 .E´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+TE´ |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4. T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FT´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5,6. T´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*FT´ |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7. F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8. F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olução do item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FIRST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(E) = {(,id}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FIRST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(E´) = {+,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}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FIRST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(T) = {(, id}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FIRST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(T´) = {*,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FIRST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(F) = {(, i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1:09:33Z</dcterms:created>
  <dc:creator>Alexandre Cardoso</dc:creator>
  <dc:description/>
  <dc:language>en-US</dc:language>
  <cp:lastModifiedBy>Alexandre Cardoso</cp:lastModifiedBy>
  <cp:lastPrinted>2001-08-18T13:52:23Z</cp:lastPrinted>
  <dcterms:modified xsi:type="dcterms:W3CDTF">2002-12-08T12:49:15Z</dcterms:modified>
  <cp:revision>70</cp:revision>
  <dc:subject/>
  <dc:title>Análise Sintática - Introdução</dc:title>
</cp:coreProperties>
</file>