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strução de Compiladores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lexandre Cardoso, D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ww.compgraf.ufu.br/alexandre/alexandr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ail: alexandre@ufu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diagrama" descr=""/>
          <p:cNvPicPr/>
          <p:nvPr/>
        </p:nvPicPr>
        <p:blipFill>
          <a:blip r:embed="rId1"/>
          <a:stretch/>
        </p:blipFill>
        <p:spPr>
          <a:xfrm>
            <a:off x="1447920" y="887400"/>
            <a:ext cx="8153280" cy="5299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agrama de um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91440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canner = An. L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ser = An. sin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8458200" cy="47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nálise Léxi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rupa caracteres da linguagem fonte em grupos chamad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tens léxicos (tokens)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lmente, as classes à que pertencem esses itens s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LAVRAS RESERVADAS : DO, IF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DENTIFICADORES : x, num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ÍMBOLOS DE OPERADORES : &lt;=, +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ÍMBOLOS DE PONTUAÇÃO : ( , ), ; 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ÚMEROS : 1024, 105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exemplo, em Pascal:  </a:t>
            </a:r>
            <a:br>
              <a:rPr sz="2400"/>
            </a:b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:= 5 ; B := A * ( PESO + 102 )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914400"/>
            <a:ext cx="81532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álise Sintáti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grupa os itens léxicos (tokens) em diversas unidades sintáticas, construindo um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árvore sintátic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v_sintática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3711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5410080"/>
            <a:ext cx="867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bs.: A árvore sintática mostra a estrutura gramatical de um programa. Cada um de seus nós representa uma unidade sint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838080"/>
            <a:ext cx="84740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pos de Erros da Fase de Anál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rros léx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 "scanner" deve detecta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rros léxic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 podem ser, por exemplo, o uso de caracteres não usados pela linguagem, ou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iros com grandeza maior do que a máxima representada no computad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- Erros Sintát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 "parser" tem como tarefa o reconhecimento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rros sintático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truções do programa fonte em desacordo com as regras de formação de unidades sintáticas, como especificado pela gramá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x.: Na sequência A + * B, deve ser detectado um operador aritmético a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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bs:  Após reconhecer um erro de sintaxe, o analisador deve emitir mensagem de erro adequada, e tratar ("recover") esse erro, isto é, continuar a análise do resto do programa, de forma que o erro comprometa o mínimo possível o processo de análi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990720"/>
            <a:ext cx="86868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ador de código intermediári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a a estrutura produzida pelo "parser" para criar uma cadeia de instruções simples. Muitos estilos de código intermediário são possíveis. Um estilo comum usa instruções com um operador e um nº pequeno de operan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timização de Código (fase opcional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melhorar o código intermediário tal que o programa objeto seja mais rápido e/ou ocupe menos espaço. Sua saída é outro programa em código intermediário que faz a mesma tarefa do original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ador de código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gera o programa objeto. O código é gerado sempre para determinadas unidades sintáticas, sendo utilizadas informações fornecidas pelo analista de contex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066680"/>
            <a:ext cx="861084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ciamento de tabela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"bookkeeping"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a porção do compilador que manipula os nomes usados pelo programa e registra informações essenciais sobre cada um deles, tal como seu tipo (inteiro, real, etc). A estrutura de dados usada para registrar essa informação é chamad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abelas(s) de Símbolo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nipulador de err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ativado quando uma falha é detectada no programa fonte. Ele avisa o programador, fornecendo um diagnóstico claro e preciso, e torna possível a continuação do processo de análise. É desejável que sejam detectados todos os erros numa única compil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Aho V.A., Sethi R., Ulman D.J., Compiladores - Princípios, Técnicas e Ferramentas, tradução de Daniel de Ariosto Pinto - Ed. Guanabara Koogan, Rio de Janeiro,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 Kowaltowisk T., Implementação de Linguagens de Programação - Ed. Guanabara Dois,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Setzer W., Mello I. H. - A Construção de um Compilador - Ed. Campus, Rio de Janeiro,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rodução ao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guagens de Programação e Pr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inição da Linguagem do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álise Léx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álise Sin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cen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cen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istema de Avali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ª Prova - valor 30 po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ª Prova - valor 30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bal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Léxica - 15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Sintática - 15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ação de Código - 10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tas: ver programação do Curso (anex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ingua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me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natural + notações (como a mate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áquin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nível muito atômico (dígitos, binários, registradores, memória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lução proposta: ling. Alto N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962520"/>
            <a:ext cx="182880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3962520"/>
            <a:ext cx="182880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72428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9920" y="419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rad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5360" y="5562720"/>
            <a:ext cx="51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radutor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ilador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ou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pre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dor: o tradutor transforma uma L.P. numa linguagem simplificada, chamad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ódigo intermediário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 pode ser diretamente executado usando um programa chamad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S: Podemos pensar na linguagem intermediária como sendo a linguagem de máquina de um computador abstrato designado a executar o código fo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182880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124080"/>
            <a:ext cx="18288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medi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80988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1760" y="3325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Interpre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pre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alguns casos, a própria linguagem fonte pode ser a linguagem intermediária. Por ex, a maioria das linguagens de comandos, na qual nos comunicamos diretamente com o sistema Operacional, são interpretadas sem nenhuma tradução prév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Interpretadores são em geral, menores que os Compiladores e facilitam as implementações mais completas de L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principal desvantagem é que o tempo de execução de um programa interpretado é em geral, maior que o de um correspondente programa objeto compilad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grama Fonte: sequência de caracteres que corresponde a uma frase, elaborada de acordo com as regras da linguagem fo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pectos da Compi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pect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295280"/>
            <a:ext cx="18288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371600"/>
            <a:ext cx="18288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0574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1760" y="1573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1371600"/>
            <a:ext cx="18288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je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840" y="1676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Exec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05740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4191120"/>
            <a:ext cx="2826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specto Sin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specto Semân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specto Pra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3434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pecto Sintático: há uma formalização conveniente através de Gramáticas Livres de Contexto, que permitem a descrição da lingu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pecto Semântico: pouca generalização - inexistência de modelos adeq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pecto Pragmático: mais variável, apresentando soluções diferenciadas para cada Sistema Operacional ado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pect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52:26Z</dcterms:created>
  <dc:creator>Alexandre Cardoso</dc:creator>
  <dc:description/>
  <dc:language>en-US</dc:language>
  <cp:lastModifiedBy>Alexandre Cardoso</cp:lastModifiedBy>
  <cp:lastPrinted>2002-10-17T21:47:57Z</cp:lastPrinted>
  <dcterms:modified xsi:type="dcterms:W3CDTF">2002-10-17T21:48:42Z</dcterms:modified>
  <cp:revision>18</cp:revision>
  <dc:subject/>
  <dc:title>Construção de Compiladores I</dc:title>
</cp:coreProperties>
</file>