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 1 - ANÁLISE SINTÁTICA - 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C 1 - ANÁLISE SINTÁTICA - fUND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Ascend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55800"/>
            <a:ext cx="8686800" cy="60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O Algoritmo inicia a leitura do programa fonte, da esquerda para a direita, varre as diferentes hipóteses e obtém a árvore de derivação. É claro que a cadeia só é reconhecida quando atinge-se o símbolo inicial da gramática. </a:t>
            </a:r>
            <a:r>
              <a:rPr b="1" lang="pt-B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Algorit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1. Adotar a cadeia dada como valor inicial de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2. Procura-se decompor 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de forma que 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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, existindo uma produção da forma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hegamos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1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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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 significado é associar ao não terminal X e as subárvores são as ocorrências d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...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n,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que foram substituídas. Se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é um terminal, a árvore associada será uma folha de rótul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3. Repete-se o passo anterior até que </a:t>
            </a:r>
            <a:r>
              <a:rPr b="0" i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eja o símbolo inicial da gramá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com Retro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066680"/>
            <a:ext cx="83980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serva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ossibilidade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oo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inito para produções com recursão 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uma seqüência de expressões errôneas, capaz de gerar uma má cadeia, leva a uma nova tentativa e à perda do efeito semântico da tentativa erra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ordem das substituições podem afetar a aceitação da cadeia, por exemplo, no caso anterior, se tivéssemos tentado expandir A para a e reconhecido A, 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alharia na tentativa de reconheci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Recur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914400"/>
            <a:ext cx="8458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914400"/>
            <a:ext cx="84582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ecisamos saber, dado o símbolo de entrad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o não termin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ser expandido, qual das alternativas da produ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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é a única alternativa que deriva uma cadeia começando por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uma alternativa de A é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 nenhuma das outras alternativas deriva da cadeia começando com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ntão podemos expand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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ceitando a entrada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400"/>
            </a:b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 parser recursivo descendente é um conjunto de procedimentos recursivos,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um para cada não terminal a ser deriv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Recurs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914400"/>
            <a:ext cx="84582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200" spc="-1" strike="noStrike">
                <a:solidFill>
                  <a:srgbClr val="3333cc"/>
                </a:solidFill>
                <a:latin typeface="Times New Roman"/>
              </a:rPr>
              <a:t>Restrições a este tipo de análi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- gramáticas não recursivas à esquerda, com produções A      A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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- não possuindo mais que um lado direito de um não terminal começando por um mesmo terminal;</a:t>
            </a:r>
            <a:r>
              <a:rPr b="0" lang="pt-BR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xempl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&lt; programa&gt; := &lt;declarações&gt; &lt;bloco&gt;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cedure progr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claraçõ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loc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exico(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x = ‘.’) then write (“Programa Sintaticamente Correto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write (“Erro de Sintaxe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gera2" descr=""/>
          <p:cNvPicPr/>
          <p:nvPr/>
        </p:nvPicPr>
        <p:blipFill>
          <a:blip r:embed="rId1"/>
          <a:stretch/>
        </p:blipFill>
        <p:spPr>
          <a:xfrm>
            <a:off x="7391520" y="1219320"/>
            <a:ext cx="406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2440" y="7776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álise Descendente Recursiva -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990720"/>
            <a:ext cx="8610840" cy="34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éto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Diagrama Sintático -&gt; Procedimento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seqüência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1 Gramática -&gt; 1 P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ão-terminal -&gt; Grafo -&gt; Proced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 Seja a gramática dada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 -&gt; aAd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-&gt; cA | eB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-&gt; f |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op_down_Imp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419112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Ascend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838080"/>
            <a:ext cx="868680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eja a gramática de Expresssões, anteriormente defini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1. E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2. | E +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3. |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upondo a cadei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+ b * a,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teríamos que aplicar reduções até obter a cadeia de entr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0880" y="2016000"/>
            <a:ext cx="413064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4. T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5. | T *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6. F </a:t>
            </a:r>
            <a:r>
              <a:rPr b="1" lang="pt-BR" sz="24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9680" y="2021040"/>
            <a:ext cx="118368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7. |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Arial"/>
              </a:rPr>
              <a:t>8. | (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an_ascendente_1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480060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Ascend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838080"/>
            <a:ext cx="8686800" cy="45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Observaç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curamos as reduções mais à esquerda, obtém-se as derivações mais à direita que formam a cade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em sempre as reduções são triviais e levam à uma sequência vál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Considerando o item anterior, o algoritmo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everi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varrer todas as hipóteses possíveis, retrocedendo, se necessá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 algoritmo ideal sabe qual redução escolher - aplicável a um número menor de gramátic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Ascend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838080"/>
            <a:ext cx="86868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Times New Roman"/>
              </a:rPr>
              <a:t>Problemas da Análise Ascend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ntificação da part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ser reduz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ntificação da produção a ser associada adequadamente à redução. Assim, em uma gramática onde existam produções do ti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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grama tem de saber qual produção deve ser aplicada para re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á algoritmos que usam o mecanismo de redução difer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Descend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838080"/>
            <a:ext cx="8686800" cy="52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Princípios Bás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arte-se do axioma da gramática, para chegar à sentença a ser verificada: se esta sentença estiver correta do ponto de vista gramatical, ela é reconhecid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qüivale à construir a árvore de derivação para a sentença, a partir da raiz e obter nas folhas os símbolos da 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Quando as folhas representam os símbolos terminais relativos à cadeia de entrada, a mesma foi reconhec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No curso: </a:t>
            </a:r>
            <a:r>
              <a:rPr b="1" i="1" lang="pt-BR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- Análise Descendente com Ret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- Análise Descendente Recurs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- Análise LL(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com Retro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914400"/>
            <a:ext cx="86868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dos primeiros métodos para Análise Sin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resenta grandes ineficiências quanto à utilização de memória e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cesso é tipicamente exploratório: tenta-se a derivação mais à esquerda para obter uma dada cadeia de entrada, através da exploração: no caso de haver várias regras com o mesmo lado esquerdo e diferentes lados direitos, ele escolhe uma e continua a análise; caso tenha escolhido mal, ele seleciona outra possibilidade e continua o pro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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cesso termina quando não existem mais alternativas ou quando a cadeia foi reconhe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com Retro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914400"/>
            <a:ext cx="8458200" cy="60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hamos a gramática dada por G = (Vn, Vt, {S}, P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Vn = {S, A, B}, Vt = {a, b, c, d}, onde P é dado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- S -&gt; 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- A -&gt; 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- A -&gt; 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is seriam as tentativas executadas pel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reconhecer a cadeia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bcd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3333cc"/>
                </a:solidFill>
                <a:latin typeface="Times New Roman"/>
              </a:rPr>
              <a:t>Obs: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a partir do exemplo, observa-se que o problema passa a ser como fazer para evitar retrocessos na análise: conhecido o próximo símbolo da cadeia e qual o não terminal a ser derivado, determinar exatamente qual regra da Gramática deve ser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2880" y="1752480"/>
            <a:ext cx="164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4 - B -&gt; bB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- B -&gt; cB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6 - B -&gt; d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com Retro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914400"/>
            <a:ext cx="8458200" cy="37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uponhamos a gramática dada por G = (Vn, Vt, {S}, P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Vn = {S, A}, Vt = {a, b, c, d}, onde P é dado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- S -&gt; c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- A -&gt; a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- A -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cesso de construção top-down para a cadeia ‘cad’ s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azemos S como nossa árvore inicial, c é o primeiro símbolo 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usando a primeira produção possível para S obtém-se a árvor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64832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6200" y="560376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        A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038480" y="51055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510552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06360" y="745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Análise Descendente com Retro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914400"/>
            <a:ext cx="8458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c corresponde ao primeiro símbolo 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ntão, uma posição é avançada, ficando o ponteiro apontando para ‘a’, e o não terminal ‘A’. A tentativa abaixo pode ser efetua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1280" y="324180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        A       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733560" y="274320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7432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2743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2096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3600" y="3886200"/>
            <a:ext cx="10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     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206600" y="3616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5560" y="36162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495680"/>
            <a:ext cx="84582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gora, na leitura do próximo símbolo ‘d’ não há reconhecimento, deve-se voltar ao símbolo A e tentar nova regra de produção que permita o reconhecimento, e assim, sucessivamente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09:33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1-21T14:52:05Z</dcterms:modified>
  <cp:revision>48</cp:revision>
  <dc:subject/>
  <dc:title>Análise Sintática - Introdução</dc:title>
</cp:coreProperties>
</file>