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168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04920" y="761760"/>
            <a:ext cx="9144000" cy="533160"/>
            <a:chOff x="304920" y="761760"/>
            <a:chExt cx="9144000" cy="533160"/>
          </a:xfrm>
        </p:grpSpPr>
        <p:sp>
          <p:nvSpPr>
            <p:cNvPr id="6" name=""/>
            <p:cNvSpPr/>
            <p:nvPr/>
          </p:nvSpPr>
          <p:spPr>
            <a:xfrm flipV="1">
              <a:off x="30492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5248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dragon" descr=""/>
          <p:cNvPicPr/>
          <p:nvPr/>
        </p:nvPicPr>
        <p:blipFill>
          <a:blip r:embed="rId2"/>
          <a:stretch/>
        </p:blipFill>
        <p:spPr>
          <a:xfrm>
            <a:off x="0" y="0"/>
            <a:ext cx="98100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5360" y="12193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68200" y="761760"/>
            <a:ext cx="9144000" cy="533160"/>
            <a:chOff x="268200" y="761760"/>
            <a:chExt cx="9144000" cy="533160"/>
          </a:xfrm>
        </p:grpSpPr>
        <p:sp>
          <p:nvSpPr>
            <p:cNvPr id="49" name=""/>
            <p:cNvSpPr/>
            <p:nvPr/>
          </p:nvSpPr>
          <p:spPr>
            <a:xfrm flipV="1">
              <a:off x="268200" y="761760"/>
              <a:ext cx="1447560" cy="53316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15760" y="762120"/>
              <a:ext cx="76964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533520" y="6226200"/>
            <a:ext cx="899136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520" y="6248520"/>
            <a:ext cx="8991360" cy="459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Umbrella"/>
              </a:rPr>
              <a:t>Construção de Compilador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955800"/>
            <a:ext cx="8686800" cy="47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Relação Cabeça (Head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É uma das mais simples de identificar e seu nome deve-se ao fato de que um de seus elementos é a cabeça do lado direito de uma regra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beça: Vn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t U Vn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beça (A): {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| 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regra de produção de G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n; 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mplo: Seja a gramática G = (Vn, Vt, P, S) onde Vn = {S,A,B} e Vt = {a,b};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: S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B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A | 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bB |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2560" y="4038480"/>
            <a:ext cx="442980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 relações cabeça existentes sã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beça (S) = {A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beça (A) = {a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abeça (B) = {b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apel dos Analisadores  Sintá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990720"/>
            <a:ext cx="853452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Identificar erros de 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*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Tornar clara a estrutura hierárquica da evolução da sentença: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/ B * C 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(A/B) * C  em Fortran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/ (B*C) em AP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Recuperação de erros de sintax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Times New Roman"/>
              </a:rPr>
              <a:t>Não retardar, de forma significativa, o processamento de programas corret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350532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3920" y="4038480"/>
            <a:ext cx="457200" cy="152640"/>
          </a:xfrm>
          <a:prstGeom prst="rightArrow">
            <a:avLst>
              <a:gd name="adj1" fmla="val 50000"/>
              <a:gd name="adj2" fmla="val 7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serva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219320"/>
            <a:ext cx="8534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60% dos programas compilados corretos sintaticamente e semanticame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80% dos enunciados com erros apresentam apenas um err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13% dos enunciados com erros apresentam apenas dois err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90% dos erros envolvem um único tok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alisadores  Sintáticos - 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685800"/>
            <a:ext cx="8093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Métodos de Cocke-Younger-Kasami e Early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niversais: servem para qualquer gramática (bem eficien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Métodos Descendentes (Top Down): constroem a árvore sintática de cima para bai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es Descendentes Recurs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es LL(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Métodos Ascendentes (Bottom-up):constroem a árvore sintática de baixo para c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es S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es 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alisadores LAL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alisadores  Sintáticos - Tip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838080"/>
            <a:ext cx="8534520" cy="51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Tanto para a análise ascendente, quanto para a descend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a entrada é examinada da esquerda para a direita, um símbolo por ve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rabalham com subclasses de gramá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Em geral, as gramáticas são LL e L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na prática, utilizam-se LL(1) e LR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Muitos compiladores são dirigidos pela sintaxe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n driver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, onde o analisador sintático chama o analisador léx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Há ferramentas para geração automática de analisadores sintático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como 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Yacc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o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B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uperação de Er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83808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Desespero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identificado um erro, o analisador sintático descarta símbolos de entrada, até que seja encontrado um token pertencente ao subconjunto de tokens de sincronizaçã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tokens de sincronização: delimitadores etc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Recuperação de Frases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o descobrir um erro, o analisador sintático pode realizar uma correção local na entrada restante (substituir por alguma cadeia que permita a análise prossegu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xemplo: substituir uma vírgula inadequada por um ponto e vírgula, remover um “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” excend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cuperação de Err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83808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Produções de Erro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umenta-se a gramática, de forma a acomodar os erros mais comuns. Quando uma produção de erro é identificada pelo analisador, diagnósticos apropriados são apresentados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mmonBullets"/>
                <a:ea typeface="CommonBullets"/>
              </a:rPr>
              <a:t>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Correção Global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sa algoritmos de escolha da sequência mínima de mudanças necessárias para se obter a correção global, com custo adequ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xemplo: dada uma cadeia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o parser procura árvores gramaticais que permitam transformar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cadeia correta) com um mínimo de modific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55800"/>
            <a:ext cx="8686800" cy="49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Relação Último (Last)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Último: Vn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Último (A) = {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| A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regra de produção de G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n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(Vn U Vt)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uitivamente, a relação último relaciona um dado não terminal, existente do lado esquerdo de uma certa regra, com o último elemento que aparece do lado direito desta regr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o exemplo anterior: Último(S) = {B}; Último(A) = {A, a}; Último(B) = {B, b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955800"/>
            <a:ext cx="876276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Relação First()</a:t>
            </a: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lação Firstk é uma parente próxima da relação Cabeça. É definida para k e N como send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k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= {x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t* | (|x| &lt; k 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riva x) ou (|x| = k 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riva x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*; x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t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relação Firstk(a) de uma gramática consiste de todas as cadeias de terminais de tamanho k, que são geradas a partir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numa seqüência de 0 ou mais produçõ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deriv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entã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ambém está no conjunto Firstk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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No exemplo anterior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1 (S) = {a}, First1(A) = {a} e First1 (B) = 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0880" y="838080"/>
            <a:ext cx="9144000" cy="60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gras para determinar o conjunto First1 (x), para todo símbolo e (Vn U Vt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 - Se x é terminal, First1(x) = {x}, pois x deriva x;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2 - Se x é não terminal e x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produção, então acrescente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1(x). Se x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é uma produção, acrescent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First1(x);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3 - Se x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Y1Y2Y3...Yk é uma produção, então para todo i tal que todos Yi...Yi-1 são não terminais e First1(Yj) conté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, para j = 1,2,...,i-1 (isto é, Y1Y2...Yi-1 l) acrescente todo símbolo diferente d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de First1(Yi) em First1(x). S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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irst1(Yj) para todo j = 1,2,...,k, então acrescent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a First1 (x);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Para calcular First1(x1x2..xn) como segue: adicione a First1(x1x2..xn) todos símbolos diferentes d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de First1(x1). S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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First1(x1) acrescente também todos símbolos diferentes d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 First1(x2); s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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First1(x2) então acrescente também os símbolos diferentes de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de First1(x3) e assim por diante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21400" y="1031760"/>
            <a:ext cx="6718680" cy="50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xemplo:</a:t>
            </a:r>
            <a:r>
              <a:rPr b="0" lang="pt-BR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: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TE'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'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+TE' |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T'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'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*FT' |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pt-BR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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E) | id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Vn = {E,T,F,E',T'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t = {(,),id,+,*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 =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os: First (E) = First (TE') = First (FT'E') = {(,id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 (E') = {+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irst (T') = {*,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838080"/>
            <a:ext cx="914400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lação Seguidork (Follow)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G = (Vn, Vt, P, S) definimos a relação Follow como: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k (A) = {x e Vt* | (S deriv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x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Firstk (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)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de A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n; x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Vt*;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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(Vn U Vt)*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ssim, o conjunto Follow1 (A) é o conjunto dos terminais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que podem aparecer imediatamente à direita de A em alguma forma sentencial (" estágio da geração de uma sentença constitui uma forma sentencial), tal que S deriva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para algum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gras para se determinar o conjunto Follow1 (B), para todo B e V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1 - Se existe uma produção A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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 então tudo o que estiver em First1 (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), exceto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 está em Follow1 (B); </a:t>
            </a:r>
            <a:br>
              <a:rPr sz="2000"/>
            </a:b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2 - Se existe uma produção A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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, ou uma produção A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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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rst1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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(isto é,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riva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), então tudo o que estiver em Follow1 (A) está em Follow1 (B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Relações em uma Gramát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295280"/>
            <a:ext cx="9144000" cy="41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Times New Roman"/>
              </a:rPr>
              <a:t>Exemplo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idere a gramática do exemplo do First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ão: Follow1 (E) = { ) 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1 (T') = First1 (E') = {+} U Follow1 (E') = {+} U Follow1 (E) = {+,)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1 (F) = First1 (T') = {*} U Follow1 (T') = {*} U Follow1 (T) = {*,+,)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1 (E') = Follow1 (E) = { ) }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llow1 (T') = Follow1 (T) = {+, )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- 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1676520"/>
            <a:ext cx="20574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3886200"/>
            <a:ext cx="2057400" cy="13716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ad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á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43828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371600" y="20574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ista de tok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190512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ma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114800"/>
            <a:ext cx="1600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Árv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rama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5880" y="4648320"/>
            <a:ext cx="1447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41911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7240" y="3962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02080" y="4889520"/>
            <a:ext cx="144756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72428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bter próximo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álise Sintática - Introdu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8093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Funções do Analisador Sintático: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comprovar que a sequência de tokens cumpre as regras gramaticai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gerar a árvore gramat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3333cc"/>
              </a:buClr>
              <a:buFont typeface="CommonBullets" charset="2"/>
              <a:buChar char="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Times New Roman"/>
              </a:rPr>
              <a:t>Vantagens de utilizar gramá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especificações sintáticas precisas de linguagen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podemos usar um gerador automático de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ars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o processo de construção pode levar a identificar ambiguidad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 facilidade de ampliar/modificar a lingu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1:09:33Z</dcterms:created>
  <dc:creator>Alexandre Cardoso</dc:creator>
  <dc:description/>
  <dc:language>en-US</dc:language>
  <cp:lastModifiedBy>Alexandre Cardoso</cp:lastModifiedBy>
  <cp:lastPrinted>2001-08-18T13:52:23Z</cp:lastPrinted>
  <dcterms:modified xsi:type="dcterms:W3CDTF">2002-11-13T16:37:26Z</dcterms:modified>
  <cp:revision>26</cp:revision>
  <dc:subject/>
  <dc:title>Análise Sintática - Introdução</dc:title>
</cp:coreProperties>
</file>