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9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Léx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14400"/>
            <a:ext cx="861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do o trecho de programa abaix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f ( 5 = MAX) go to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lista devolvida pelo léxico poderia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f, (, [const,341], =, [ident,729], ), go to, [label,55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73392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09880" y="3657600"/>
            <a:ext cx="1526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952880" y="3657600"/>
            <a:ext cx="1371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449568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Índices para a tabela de símbolos: contém informações sobre constantes, variáveis e céd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 - Est.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809640"/>
            <a:ext cx="8458200" cy="59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(4) Tabelas </a:t>
            </a:r>
            <a:r>
              <a:rPr b="1" i="1" lang="pt-BR" sz="2400" spc="-1" strike="noStrike">
                <a:solidFill>
                  <a:srgbClr val="ff0000"/>
                </a:solidFill>
                <a:latin typeface="Times New Roman"/>
              </a:rPr>
              <a:t>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lações que levam, de uma certa característica da chave em que se aplica a relação, a um endereço válido para cada caso específ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m particular, numa T.S. que comport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dentificadores, devemos construir uma relação de modo que, aplicando-a a um dado identificador obteremos o endereço onde deveriam estar as informações referentes a e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o endereço obtido deve sempre estar dentro da T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&gt; 0, onde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número de identificadores 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o conjunto de endereços válidos para a tabela de símb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 - Est.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990720"/>
            <a:ext cx="8458200" cy="60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(4) Tabelas </a:t>
            </a:r>
            <a:r>
              <a:rPr b="1" i="1" lang="pt-BR" sz="2400" spc="-1" strike="noStrike">
                <a:solidFill>
                  <a:srgbClr val="ff0000"/>
                </a:solidFill>
                <a:latin typeface="Times New Roman"/>
              </a:rPr>
              <a:t>hash (continua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o número de identificadores possíveis é muito maior do que o número de posições na T.S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haverá casos de conflitos; isto é, mais do que um identificador produzirá o mesmo endereço na T.S.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 eficiência do método de funções de "hash" está intimamente relacionada com a solução adotada para resolver os casos de confli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implementação mais custosa que os process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 - Est.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719280"/>
            <a:ext cx="845820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(4) Tabelas </a:t>
            </a:r>
            <a:r>
              <a:rPr b="1" i="1" lang="pt-BR" sz="2400" spc="-1" strike="noStrike">
                <a:solidFill>
                  <a:srgbClr val="ff0000"/>
                </a:solidFill>
                <a:latin typeface="Times New Roman"/>
              </a:rPr>
              <a:t>hash (continua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tab_símbolos_fig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92966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 - conside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838080"/>
            <a:ext cx="853452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comum se ter mais do que uma tabela devido o espaço requerido por cada nome (que pode variar consideravelmente, dependendo do uso que se faz do no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o formato das entradas de informação puder variar, uma única tabela pode bas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pendendo de como a análise léxica é implementada, pode ser útil inicializar a T.S. com as palavras re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a linguagem nã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eserv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lavras-reservadas (permite o uso de tais palavras como identificadores), então é essencial que as palavras reservadas sejam introduzidas na T.S. e que ela tenham associadas a si uma informação de que podem ser usadas como palavras-reservadas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 Reser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990720"/>
            <a:ext cx="822960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ão símbolos especiais ou reserv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todos os operadores e separadores de uma gramática: 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*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:=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&gt;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&gt;=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&lt;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&lt;=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&amp;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;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s palavras reservadas da linguagem : 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END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tc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33920" y="3124080"/>
          <a:ext cx="4213080" cy="27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24080"/>
                    <a:ext cx="421308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7160" y="1031760"/>
            <a:ext cx="824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rola as informações de escopo e de amarrações dos nom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pesquisada toda vez que um nome é encontrado no texto fo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necessário permitir a entrada de novos nomes e a obtenção daqueles já inseri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dem ser implementad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istas lin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tabelas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7160" y="1031760"/>
            <a:ext cx="824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do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radas 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quisi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Lista linear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fácil implement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desempenho pobre par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Tabela </a:t>
            </a: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melhor desempen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mais esforço de program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mais espaço para armazen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Obs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útil para o Compilador a inserção em tempo de execu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914400"/>
            <a:ext cx="815328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cc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Entr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declarações de nom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formato não necessita ser unifor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implementação: registro com uma sequência de palavr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ode ser necessário a utilização de apon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Tipos de Entr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lavras reservad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inseridas inicialmente na tabela (antes da análise léxica ser iniciad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fortemente relacionadas com o papel de um nome no contexto da linguagem fo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o analisador léxico pode começar o processo de entrada dos nomes -- risco: nome pode denotar objetos distin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914400"/>
            <a:ext cx="86104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cc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truct x {float y, z;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: inteiro e rótulo de uma estrutura de camp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Neste caso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éxico retorna ao sintático o nome (ou um apontador para o lexema que forma o no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gistro na tabela: criado quando o papel sintático do nome for detec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duas entradas para x: inteiro e estru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990720"/>
            <a:ext cx="815364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Operações sobre T. S.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verificar se um dado nome está na T. S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inserir um nome na T. S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cessar a info. associada a um nome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dicionar info. associada a nome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liminar 1 ou grupo de nome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Entrada da T.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ab_símbolos_fig1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22860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 - Est.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990720"/>
            <a:ext cx="84582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(1) Listas Lineares Seqüencia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Simples; fácil de implemen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tab_símbolos_fig2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4343400" cy="3932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191120" y="2438280"/>
            <a:ext cx="5181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usto p/ inserção:  aproximadamente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usca média: 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usto p/ n inserções e m buscas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n(n+m)=O(n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 - Est.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990720"/>
            <a:ext cx="84582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(2) Listas Encade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nomes referenciados são movidos para o início da lis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tab_símbolos_fig3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8153640" cy="2278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32560" y="4994280"/>
            <a:ext cx="65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dução de tempo, em relação ao método anteri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abela de Símbolos - Est.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990720"/>
            <a:ext cx="84582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(3) Árvores de Bus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nomes à esquerda ou direita de um outro n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tab_símbolos_fig4" descr=""/>
          <p:cNvPicPr/>
          <p:nvPr/>
        </p:nvPicPr>
        <p:blipFill>
          <a:blip r:embed="rId1"/>
          <a:stretch/>
        </p:blipFill>
        <p:spPr>
          <a:xfrm>
            <a:off x="141120" y="2565360"/>
            <a:ext cx="7162920" cy="3054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15000" y="2209680"/>
            <a:ext cx="40449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mes em ordem aleatóri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omprimento médio de busca: ~ log(n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usto p/ n inserções e m buscas: ~ (n + m) log (n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 &gt; 50 ====&gt;árvore busca é melhor solução que lista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1:10:22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2-11-07T13:46:09Z</dcterms:modified>
  <cp:revision>10</cp:revision>
  <dc:subject/>
  <dc:title>Análise Léxica</dc:title>
</cp:coreProperties>
</file>