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7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952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utômatos Finitos Determinís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990720"/>
            <a:ext cx="8382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 há transição-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cada estad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dado um símbolo de entrad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xiste, no máximo, um lado rotulad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ixand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ut_finito_nd_1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9144000" cy="2363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9720" y="255600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tômato Finito não-determinístico para (a|b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52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utômatos Finitos Determinís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aut_fin_det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333760" cy="39020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50680" y="990720"/>
            <a:ext cx="57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tômato Finito determinístico para (a|b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952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versão de AFN para AF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990720"/>
            <a:ext cx="8796600" cy="50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utômatos finitos não-determinísticos precisam lidar com situações de ambigüidade, como no caso de um estado a partir do qual parte mais de uma transiçao vazia. É possível eliminar essas ambigüidades através da construção de um autômato finito determinístico que é equivalente a um autômato finito não-determinís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ratégia de Conversão de AFN para AF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construção de subconjun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stado original  =&gt;  novo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lgoritmo: página 53 - A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952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mplementando An. Léx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990720"/>
            <a:ext cx="8796600" cy="44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ões do Analisador Léx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calizar/abrir o arquivo fo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parar toke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assificar toke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iminar comentári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iminar branc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ar uma lista dos tokens classificad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char arqui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95280" y="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Exercí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8796240" cy="32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Elaborar um DFD relativo à análise léx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Separar, classificando os elementos terminais da gramática relativa ao mini Pas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Elaborar um AFN que reconheç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*b*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. Elaborar um AFD que reconheça a mesma linguag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16:46:06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0-29T18:37:53Z</dcterms:modified>
  <cp:revision>8</cp:revision>
  <dc:subject/>
  <dc:title>Slide sem título </dc:title>
</cp:coreProperties>
</file>