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1680" y="64008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onstrução de compiladore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761760"/>
            <a:ext cx="9144000" cy="533160"/>
            <a:chOff x="304920" y="761760"/>
            <a:chExt cx="9144000" cy="533160"/>
          </a:xfrm>
        </p:grpSpPr>
        <p:sp>
          <p:nvSpPr>
            <p:cNvPr id="6" name=""/>
            <p:cNvSpPr/>
            <p:nvPr/>
          </p:nvSpPr>
          <p:spPr>
            <a:xfrm flipV="1">
              <a:off x="30492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5248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68200" y="761760"/>
            <a:ext cx="9144000" cy="533160"/>
            <a:chOff x="268200" y="761760"/>
            <a:chExt cx="9144000" cy="533160"/>
          </a:xfrm>
        </p:grpSpPr>
        <p:sp>
          <p:nvSpPr>
            <p:cNvPr id="49" name=""/>
            <p:cNvSpPr/>
            <p:nvPr/>
          </p:nvSpPr>
          <p:spPr>
            <a:xfrm flipV="1">
              <a:off x="26820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576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onstrução de compiladore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inguagem de Prog. e Progra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m qualquer ling. de programação, é necessário conhec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ruturas de dados permit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o mexer com partes do programa, sem alterar todo o res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elementos de controle que identificam as estruturas, tais como: loop etc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o implementar subrot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051280" y="57240"/>
            <a:ext cx="654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conhecimento de  Tok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9144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iagramas de Transição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passo intermediá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presentam ações executadas pelo Analisador Léxic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controla as informações a respeito de caracteres que são examinados, com a leitura do arquivo fo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lementos dos Diagram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stad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posições no diagra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lados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tas que conectam os estad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rótulos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dicam os caracteres de entrada que podem aparecer após atingir-se um dado est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Ob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Chamamos o diagrama de 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determinístic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quando o mesmo símbolo não figura como rótulo de lados diferentes que deixem um mesmo 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907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iagramas de Transi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06000" y="797040"/>
            <a:ext cx="71499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upondo a que um número real possa ser dado p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sinal&gt;&lt;parte_inteira&gt;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parte_fracionária&gt;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expoen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diagr_transição_1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8534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Diagramas de Transi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diagr_transição_2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7804080" cy="2163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354400" y="1523880"/>
            <a:ext cx="51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a reconhecimento de identificador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907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utômatos Fin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990720"/>
            <a:ext cx="8382240" cy="54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símbolos que deverão ser reconhecidos na análise léxica são representáveis por expressões regulares (ou equivalentemente por gramáticas regulare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á uma correspondência unívoca entre expressões (ou gramáticas) regulares 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utômatos finit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400" spc="-1" strike="noStrike" u="sng">
                <a:solidFill>
                  <a:srgbClr val="0033cc"/>
                </a:solidFill>
                <a:uFillTx/>
                <a:latin typeface="Times New Roman"/>
              </a:rPr>
              <a:t>Autômatos Finit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máquinas que podem ser utilizadas para reconhecer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uma dada linguagem. Autômatos Finitos são compostos p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Monotype Sorts"/>
                <a:ea typeface="Monotype Sorts"/>
              </a:rPr>
              <a:t>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conjunto de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stad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alguns dos quais são denominados estados finais. À medida que caracteres da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entrada são lidos, o controle da máquina passa de um estado a outr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33cc"/>
                </a:solidFill>
                <a:latin typeface="Monotype Sorts"/>
                <a:ea typeface="Monotype Sorts"/>
              </a:rPr>
              <a:t>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conjunto de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gras de transição entre os es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907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utômatos Fin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990720"/>
            <a:ext cx="838224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Formalmente, um autômato é descrito por cinco 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um conjunto finito de estad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um alfabeto de entrada fini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um conjunto de transiçõ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um estado ini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um conjunto de estados fin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Quando, partindo de um estado inicial, varrendo a sentença dada (de acordo com as regras de transições), consegue-se atingir um estado final, a sentença dada é parte da linguagem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907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utômatos Fin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1920" y="1066680"/>
            <a:ext cx="72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rma Gráfica de Representação de um Autômato Fini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autom_finito_1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60958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907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utômatos Fin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7800" y="2438280"/>
            <a:ext cx="3838320" cy="29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2438280"/>
            <a:ext cx="60948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2438280"/>
            <a:ext cx="3352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0680" y="1219320"/>
            <a:ext cx="77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rma Tabular de Representação do mesmo Autômato Fini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36600" y="1332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utômatos Finitos não-determínis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838080"/>
            <a:ext cx="8381880" cy="47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Autômato de Estados Finito não-deterministico 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quele em que pode ocorrer a transição vazia (aquela em que o autômato pode passar de um estado a outro sem que ocorra a entrada de um caracter d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quele onde podem ocorrer indeterminações na ação, isto é, determinados estados podem ter mais do que uma transição possível para um dado carac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95560" y="7776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utômatos Finitos não-determínist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800" y="838080"/>
            <a:ext cx="65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xemplo: Reconhecimento da linguagem (a|b)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b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aut_finito_1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162560" cy="1933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00200" y="3505320"/>
            <a:ext cx="6858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ímbolo de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{0,1}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{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{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{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962520"/>
            <a:ext cx="647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44197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35812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73600" y="397188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3962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3962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Linguagens e o Compil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ling_compiladores1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8686800" cy="4181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34200" y="5486400"/>
            <a:ext cx="7157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= ling. fonte; L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= ling. máquina; L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= Ling. obje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 compilador: 3 linguage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linguagem fon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linguagem obje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linguagem na qual o compilador foi escri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Linguagens e o Compil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654200" y="1227240"/>
          <a:ext cx="6608880" cy="44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4200" y="1227240"/>
                    <a:ext cx="6608880" cy="44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90720" y="3962520"/>
                <a:ext cx="160020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42900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3640" y="3733920"/>
            <a:ext cx="39708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escrito para a linguagem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crito na linguagem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ódigo objeto na linguagem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Linguagens e o Compil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523880" y="1447920"/>
                <a:ext cx="65055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</m:sup>
                    </m:sSubSup>
                    <m:r>
                      <m:t xml:space="preserve">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sup>
                    </m:sSubSup>
                    <m:r>
                      <m:t xml:space="preserve">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746360" y="3505320"/>
                <a:ext cx="636588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b</m:t>
                        </m:r>
                      </m:sup>
                    </m:sSubSup>
                    <m:r>
                      <m:t xml:space="preserve">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</m:sup>
                    </m:sSubSup>
                    <m:r>
                      <m:t xml:space="preserve">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b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90360" y="1066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 geral, L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é uma linguagem de alto nível como ALGOL, COBOL, PASCAL, etc. L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não é necessariamente uma linguagem de máquina, podendo ser uma Linguagem de Montagem ("Assembler") L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sse caso, é necessário ter-se mais uma fase de tradução de L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para a linguagem de máquina L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o computador a ser utilizado para processar o programa objeto: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Linguagens e o Compil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ling_compiladores2" descr=""/>
          <p:cNvPicPr/>
          <p:nvPr/>
        </p:nvPicPr>
        <p:blipFill>
          <a:blip r:embed="rId1"/>
          <a:stretch/>
        </p:blipFill>
        <p:spPr>
          <a:xfrm>
            <a:off x="609480" y="4191120"/>
            <a:ext cx="868680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st. Hierárquica de uma L.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hierarquia_lp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548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907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nálise Léx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990720"/>
            <a:ext cx="801684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nalisador Léx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ª fase de um compi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ê os caracteres de entrada e produz uma sequência de símbolos léxicos válidos (toke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de ser implementado como uma subrotina d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ou uma co-rotina d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cuta tarefas secundárias,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mover comentári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mover espaços em br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trolar posição dos elementos, visando mensagens de erros ao program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nálise Léx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990720"/>
            <a:ext cx="801684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lementos dados: elementos básicos de qualquer ling. de programa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uméricos: inteiros, reais, complexos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ógicos: true,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racteres: “C”, “a”, “ca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ntei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entificadores / nomes: variáveis dos procedimentos, associadas a um dado n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10000"/>
              </a:lnSpc>
              <a:buClr>
                <a:srgbClr val="0000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3360" y="4952880"/>
            <a:ext cx="11318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trib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518148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nálise Léx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990720"/>
            <a:ext cx="8016840" cy="47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ruturas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il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peradores aritmé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nár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é-fix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buClr>
                <a:srgbClr val="000000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ós-fix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n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19:36:04Z</dcterms:created>
  <dc:creator>Alexandre Cardoso</dc:creator>
  <dc:description/>
  <dc:language>en-US</dc:language>
  <cp:lastModifiedBy>Alexandre Cardoso</cp:lastModifiedBy>
  <cp:lastPrinted>2001-08-18T13:52:23Z</cp:lastPrinted>
  <dcterms:modified xsi:type="dcterms:W3CDTF">2002-11-13T16:39:13Z</dcterms:modified>
  <cp:revision>19</cp:revision>
  <dc:subject/>
  <dc:title>Slide sem título </dc:title>
</cp:coreProperties>
</file>